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B88-C307-457F-8EEF-B9C05D8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A98-6DE8-467E-ABE6-1C02075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21D-A59F-4011-9140-0ED7BB5A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EF1-92C0-4276-8832-7ED9CBEA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331-5206-4760-A55F-77E19F2C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D64-D1B1-438F-A2FB-C5301DD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2EE-D705-4056-AA34-CBE1A0B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BD7-D9A8-4658-900F-75220F7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209-1F33-4F62-A193-1F77DA7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0D5-7A77-4249-BA9A-B932B1B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114-AC2B-4F12-B2D6-CA232B4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3F5-6ED0-4A08-B8D6-F9AE7BB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099-81C5-49E2-8D48-D44455E3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hmm.org/wlc/media_ph.php?lang=en&amp;ModuleId=10005210&amp;MediaId=77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193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0655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56200" cy="50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527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46400" y="503280"/>
            <a:ext cx="4651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389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6345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263988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0:38Z</dcterms:created>
  <dc:creator>Teresa</dc:creator>
  <dc:description/>
  <dc:language>en-US</dc:language>
  <cp:lastModifiedBy>tsmale</cp:lastModifiedBy>
  <dcterms:modified xsi:type="dcterms:W3CDTF">2010-04-01T11:13:29Z</dcterms:modified>
  <cp:revision>3</cp:revision>
  <dc:subject/>
  <dc:title>PowerPoint Presentation</dc:title>
</cp:coreProperties>
</file>