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CBE-FAD1-4632-8921-9B154A44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80D-085E-4E35-93A6-E5E6455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D2E-C8F7-4176-9C57-6A848770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430-D135-4E15-A78B-C64E5F17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662-753A-4061-8159-58E32C9E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DA7-3D91-4D27-8BDE-68F35B3E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391-E1E9-439C-BB85-7910B785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9B8-5649-4F03-AB1A-EC9302CB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CAC-DD94-4BD4-AD1D-AB6E675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6CA-887C-4547-A2A6-8001EA94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C12-09E1-46F3-BD92-9C9DAE1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6BC-6C48-46C6-8D18-461EF76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829-F343-448B-A080-17A7B31E8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hmm.org/wlc/media_ph.php?lang=en&amp;ModuleId=10005210&amp;MediaId=77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6556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056200" cy="50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527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46400" y="503280"/>
            <a:ext cx="4651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389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6345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63988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0:38Z</dcterms:created>
  <dc:creator>Teresa</dc:creator>
  <dc:description/>
  <dc:language>en-US</dc:language>
  <cp:lastModifiedBy>tsmale</cp:lastModifiedBy>
  <dcterms:modified xsi:type="dcterms:W3CDTF">2010-04-01T11:13:29Z</dcterms:modified>
  <cp:revision>3</cp:revision>
  <dc:subject/>
  <dc:title>PowerPoint Presentation</dc:title>
</cp:coreProperties>
</file>