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3DC-D7BC-4CC3-90FA-1E336CAF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9A4-3D6F-41E5-8459-35211DD1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A0E-6A25-45BC-A3DD-539CF8C5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48D-1685-47A6-8537-77A72AE6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28F-7F2E-4FC3-BD3B-A74A2B9B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B30-E787-476C-9D84-9E7D112A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AF7-F4F5-488A-B482-63ADC8A4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971-C28C-427F-AFF9-F76C39E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AF6-AF86-4227-823E-27DEC0CE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D2D-C40C-4D67-8CDD-4AD3677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93A-D012-4914-B2B8-456AE85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6EA-BC7C-40BF-BE18-988B052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CD16-573E-4ADE-9B18-9EB1125FD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hmm.org/wlc/media_ph.php?lang=en&amp;ModuleId=10005210&amp;MediaId=77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06556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056200" cy="50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527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46400" y="503280"/>
            <a:ext cx="4651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3892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63452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63988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0:38Z</dcterms:created>
  <dc:creator>Teresa</dc:creator>
  <dc:description/>
  <dc:language>en-US</dc:language>
  <cp:lastModifiedBy>tsmale</cp:lastModifiedBy>
  <dcterms:modified xsi:type="dcterms:W3CDTF">2010-04-01T11:13:29Z</dcterms:modified>
  <cp:revision>3</cp:revision>
  <dc:subject/>
  <dc:title>PowerPoint Presentation</dc:title>
</cp:coreProperties>
</file>