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A7B2-D411-476E-A983-C43309FC6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9B50-8A53-48E2-BFFB-67B7E18B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A96A-67A7-4995-B62D-9133376C9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14CE-334E-4E98-BC79-4D4156D17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5DE4-6752-41D3-8572-4FCAF3E4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FF20-D88A-4CD2-8B55-0A006258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EB61-58CD-4D8C-8666-7ED218AD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7471-941A-400C-B35E-4D12745A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25CB-2277-4215-AD6D-EB9134D9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F9DB-333B-4C18-BFF6-846A18C0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1505-23EC-4B9C-BBDC-024371A8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2EC1-DCA9-448A-9A35-56E559C4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7756-9B36-403D-A5EF-41A90A0FC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ushmm.org/wlc/media_ph.php?lang=en&amp;ModuleId=10005210&amp;MediaId=774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219320"/>
            <a:ext cx="670536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7400" y="838080"/>
            <a:ext cx="5065560" cy="487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09680" y="762120"/>
            <a:ext cx="5056200" cy="505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82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09680" y="685800"/>
            <a:ext cx="527364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46400" y="503280"/>
            <a:ext cx="465120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5038920" cy="635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7634520" cy="4267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8600" y="3276720"/>
            <a:ext cx="2639880" cy="326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5524560" cy="5524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3:30:38Z</dcterms:created>
  <dc:creator>Teresa</dc:creator>
  <dc:description/>
  <dc:language>en-US</dc:language>
  <cp:lastModifiedBy>tsmale</cp:lastModifiedBy>
  <dcterms:modified xsi:type="dcterms:W3CDTF">2010-04-01T11:13:29Z</dcterms:modified>
  <cp:revision>3</cp:revision>
  <dc:subject/>
  <dc:title>PowerPoint Presentation</dc:title>
</cp:coreProperties>
</file>