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D167-C4FE-4CC3-838E-85591FE9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6B51-1DDE-456B-9BCE-8746BCC1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F76A-13B0-4B12-A15F-41CAE45D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B41D-5FB5-4507-B5DF-86FA6256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F7C7-67FF-4608-9DC0-EBD14644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37F0-FC56-4162-8920-6A04EC34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8F27-A11A-479E-8448-90A79FB7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E3C6-8678-4A20-B5B7-1AAACD01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50AF-647C-4DDC-BD7D-41EA3BB5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A1BF-DF84-4A0F-A666-2F803549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F045-5A1A-4DBB-8995-904646C5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20D5-730D-486F-A362-66316BD8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22DC-2CB3-4E26-89BA-124B6A1CE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shmm.org/wlc/media_ph.php?lang=en&amp;ModuleId=10005210&amp;MediaId=77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219320"/>
            <a:ext cx="670536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7400" y="838080"/>
            <a:ext cx="5065560" cy="48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5056200" cy="50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82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527364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46400" y="503280"/>
            <a:ext cx="465120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5038920" cy="63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7634520" cy="4267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3276720"/>
            <a:ext cx="2639880" cy="32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5524560" cy="552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3:30:38Z</dcterms:created>
  <dc:creator>Teresa</dc:creator>
  <dc:description/>
  <dc:language>en-US</dc:language>
  <cp:lastModifiedBy>tsmale</cp:lastModifiedBy>
  <dcterms:modified xsi:type="dcterms:W3CDTF">2010-04-01T11:13:29Z</dcterms:modified>
  <cp:revision>3</cp:revision>
  <dc:subject/>
  <dc:title>PowerPoint Presentation</dc:title>
</cp:coreProperties>
</file>