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F88E-6F85-4246-808A-C3A0218F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F1B2-3CA5-4CA6-AC52-D9B8CCCC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937-A7FC-43F3-9088-FC7BB7DE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04AF-9D9D-499C-8E1C-44CD7EBF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A27-E11A-48B9-B3C7-0EA5BDE3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28FD-EA51-46D4-92EE-694DD2EB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D032-CD5D-4662-8665-A94A0532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1F3F-16B4-4BF5-8C55-F984F312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6229-E238-485E-94E5-71DF5E85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3FF-1662-40CE-AC3C-C798E5BA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EE2B-A644-41E3-AE3E-DF798190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2F18-2D70-4A41-B0B2-7334D894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515B-96ED-4B1B-B4DE-8CCE6E45B929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bc.co.uk/cbeebies/boogiebeebies/songs/wewanttobefit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ondon2012.com/" TargetMode="External"/><Relationship Id="rId2" Type="http://schemas.openxmlformats.org/officeDocument/2006/relationships/hyperlink" Target="http://www.london2012.com/" TargetMode="External"/><Relationship Id="rId3" Type="http://schemas.openxmlformats.org/officeDocument/2006/relationships/hyperlink" Target="http://www.london2012.com/" TargetMode="External"/><Relationship Id="rId4" Type="http://schemas.openxmlformats.org/officeDocument/2006/relationships/hyperlink" Target="http://www.deseducation.org/content_view.asp?did=4042" TargetMode="External"/><Relationship Id="rId5" Type="http://schemas.openxmlformats.org/officeDocument/2006/relationships/hyperlink" Target="http://www.letters-and-sounds.com/" TargetMode="External"/><Relationship Id="rId6" Type="http://schemas.openxmlformats.org/officeDocument/2006/relationships/hyperlink" Target="http://nationalstrategies.standards.dcsf.gov.uk/node/87009" TargetMode="External"/><Relationship Id="rId7" Type="http://schemas.openxmlformats.org/officeDocument/2006/relationships/hyperlink" Target="http://nationalstrategies.standards.dcsf.gov.uk/node/66416" TargetMode="External"/><Relationship Id="rId8" Type="http://schemas.openxmlformats.org/officeDocument/2006/relationships/hyperlink" Target="http://getset.london2012.com/en/home" TargetMode="External"/><Relationship Id="rId9" Type="http://schemas.openxmlformats.org/officeDocument/2006/relationships/hyperlink" Target="http://www.activityvillage.co.uk/summer_olympics.htm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lympics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214200" y="142920"/>
            <a:ext cx="807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ell Gothic Std Black"/>
              </a:rPr>
              <a:t>Rolle Primary Schoo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ell Gothic Std Black"/>
              </a:rPr>
              <a:t>Summer Term Topic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ondon-2012.png"/>
          <p:cNvPicPr/>
          <p:nvPr/>
        </p:nvPicPr>
        <p:blipFill>
          <a:blip r:embed="rId1"/>
          <a:srcRect l="-619" t="35915" r="0" b="0"/>
          <a:stretch/>
        </p:blipFill>
        <p:spPr>
          <a:xfrm>
            <a:off x="1285920" y="2428920"/>
            <a:ext cx="67467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928800"/>
            <a:ext cx="8962920" cy="572436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1176480" y="-201600"/>
            <a:ext cx="671184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530280"/>
            <a:ext cx="9144000" cy="632772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3" descr=""/>
          <p:cNvPicPr/>
          <p:nvPr/>
        </p:nvPicPr>
        <p:blipFill>
          <a:blip r:embed="rId2"/>
          <a:stretch/>
        </p:blipFill>
        <p:spPr>
          <a:xfrm>
            <a:off x="1657440" y="-201600"/>
            <a:ext cx="57546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1652760" y="-201600"/>
            <a:ext cx="5754600" cy="1128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rcRect l="12356" t="19491" r="13086" b="8658"/>
          <a:stretch/>
        </p:blipFill>
        <p:spPr>
          <a:xfrm>
            <a:off x="250920" y="936720"/>
            <a:ext cx="889308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1357200" y="310500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bbc.co.uk/cbeebies/boogiebeebies/songs/wewanttobefit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2"/>
          <a:stretch/>
        </p:blipFill>
        <p:spPr>
          <a:xfrm>
            <a:off x="1779480" y="798480"/>
            <a:ext cx="53103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785880" y="285840"/>
            <a:ext cx="621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ell Gothic Std Black"/>
              </a:rPr>
              <a:t>Resource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642960" y="1143000"/>
            <a:ext cx="7929720" cy="71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1"/>
              </a:rPr>
              <a:t> www.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2"/>
              </a:rPr>
              <a:t>london2012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3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www.priorywoods.middlesbrough.sch.uk 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Bell Gothic Std Black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/.../ict/.../soft-daz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4"/>
              </a:rPr>
              <a:t>www.deseducation.org/content_view.asp?did=4042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Leap into li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5"/>
              </a:rPr>
              <a:t>http://www.letters-and-sounds.com/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Free resour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6"/>
              </a:rPr>
              <a:t>http://nationalstrategies.standards.dcsf.gov.uk/node/87009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SE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7"/>
              </a:rPr>
              <a:t>http://nationalstrategies.standards.dcsf.gov.uk/node/664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(Going for Goa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8"/>
              </a:rPr>
              <a:t>http://getset.london2012.com/en/home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Official Olympic webs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9"/>
              </a:rPr>
              <a:t>http://www.activityvillage.co.uk/summer_olympics.htm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(Resource webs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youthsporttrust.org/page/home-welcome/index.html (Support for school spo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www.</a:t>
            </a:r>
            <a:r>
              <a:rPr b="1" lang="en-GB" sz="1400" spc="-1" strike="noStrike">
                <a:solidFill>
                  <a:srgbClr val="000000"/>
                </a:solidFill>
                <a:latin typeface="Bell Gothic Std Black"/>
              </a:rPr>
              <a:t>afpe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.org.uk  (UK subject association for Physical Edu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subjectassociation.org.uk/index.php?page=30 (Council for subject association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bbc.co.uk/nature/species/Eastern_Grey_Kangaroo (video cli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1:28:15Z</dcterms:created>
  <dc:creator>abithell</dc:creator>
  <dc:description/>
  <dc:language>en-US</dc:language>
  <cp:lastModifiedBy>Michelle</cp:lastModifiedBy>
  <dcterms:modified xsi:type="dcterms:W3CDTF">2010-04-10T08:33:23Z</dcterms:modified>
  <cp:revision>10</cp:revision>
  <dc:subject/>
  <dc:title>Slide 1</dc:title>
</cp:coreProperties>
</file>