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808-4A74-4E47-8F20-07296A6E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481-86B7-4481-A424-BF1875A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ADA-577F-4DCD-AE6D-D4562DA2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CFA-862C-4DE0-AD40-518409BF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ACB-D563-4283-ADA1-B74934B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9C8-00A4-4638-800D-148D52D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37D-3DAC-47F6-8F8D-B023B059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46B-4C3F-4160-8CAC-EB2FA45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31C-E39F-43E9-B6BA-3E326CC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E6A-5E0C-4A48-98F1-A30A33C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10D-4FF1-4EBD-9A13-E05A6EC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C4D-57F7-4450-B578-45881C5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144-D035-40E4-B7CA-18312937F70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cbeebies/boogiebeebies/songs/wewanttobefi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don2012.com/" TargetMode="External"/><Relationship Id="rId2" Type="http://schemas.openxmlformats.org/officeDocument/2006/relationships/hyperlink" Target="http://www.london2012.com/" TargetMode="External"/><Relationship Id="rId3" Type="http://schemas.openxmlformats.org/officeDocument/2006/relationships/hyperlink" Target="http://www.london2012.com/" TargetMode="External"/><Relationship Id="rId4" Type="http://schemas.openxmlformats.org/officeDocument/2006/relationships/hyperlink" Target="http://www.deseducation.org/content_view.asp?did=4042" TargetMode="External"/><Relationship Id="rId5" Type="http://schemas.openxmlformats.org/officeDocument/2006/relationships/hyperlink" Target="http://www.letters-and-sounds.com/" TargetMode="External"/><Relationship Id="rId6" Type="http://schemas.openxmlformats.org/officeDocument/2006/relationships/hyperlink" Target="http://nationalstrategies.standards.dcsf.gov.uk/node/87009" TargetMode="External"/><Relationship Id="rId7" Type="http://schemas.openxmlformats.org/officeDocument/2006/relationships/hyperlink" Target="http://nationalstrategies.standards.dcsf.gov.uk/node/66416" TargetMode="External"/><Relationship Id="rId8" Type="http://schemas.openxmlformats.org/officeDocument/2006/relationships/hyperlink" Target="http://getset.london2012.com/en/home" TargetMode="External"/><Relationship Id="rId9" Type="http://schemas.openxmlformats.org/officeDocument/2006/relationships/hyperlink" Target="http://www.activityvillage.co.uk/summer_olympics.ht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lympics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Rolle Primary Sch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Bell Gothic Std Black"/>
              </a:rPr>
              <a:t>Summer Term Topic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ndon-2012.png"/>
          <p:cNvPicPr/>
          <p:nvPr/>
        </p:nvPicPr>
        <p:blipFill>
          <a:blip r:embed="rId1"/>
          <a:srcRect l="-619" t="35915" r="0" b="0"/>
          <a:stretch/>
        </p:blipFill>
        <p:spPr>
          <a:xfrm>
            <a:off x="1285920" y="2428920"/>
            <a:ext cx="6746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8962920" cy="572436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1176480" y="-201600"/>
            <a:ext cx="67118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657440" y="-201600"/>
            <a:ext cx="5754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652760" y="-201600"/>
            <a:ext cx="5754600" cy="11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12356" t="19491" r="13086" b="8658"/>
          <a:stretch/>
        </p:blipFill>
        <p:spPr>
          <a:xfrm>
            <a:off x="250920" y="936720"/>
            <a:ext cx="8893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357200" y="3105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bbc.co.uk/cbeebies/boogiebeebies/songs/wewanttobefit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1779480" y="798480"/>
            <a:ext cx="5310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785880" y="285840"/>
            <a:ext cx="621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ell Gothic Std Black"/>
              </a:rPr>
              <a:t>Resourc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42960" y="1143000"/>
            <a:ext cx="79297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1"/>
              </a:rPr>
              <a:t> www.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2"/>
              </a:rPr>
              <a:t>london2012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3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priorywoods.middlesbrough.sch.uk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Bell Gothic Std Black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/.../ict/.../soft-daz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4"/>
              </a:rPr>
              <a:t>www.deseducation.org/content_view.asp?did=4042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Leap into li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5"/>
              </a:rPr>
              <a:t>http://www.letters-and-sounds.com/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Free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6"/>
              </a:rPr>
              <a:t>http://nationalstrategies.standards.dcsf.gov.uk/node/87009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SE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7"/>
              </a:rPr>
              <a:t>http://nationalstrategies.standards.dcsf.gov.uk/node/66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(Going for Go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8"/>
              </a:rPr>
              <a:t>http://getset.london2012.com/en/hom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(Official Olympic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Bell Gothic Std Black"/>
                <a:hlinkClick r:id="rId9"/>
              </a:rPr>
              <a:t>http://www.activityvillage.co.uk/summer_olympics.htm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 (Resource webs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youthsporttrust.org/page/home-welcome/index.html (Support for school s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www.</a:t>
            </a:r>
            <a:r>
              <a:rPr b="1" lang="en-GB" sz="1400" spc="-1" strike="noStrike">
                <a:solidFill>
                  <a:srgbClr val="000000"/>
                </a:solidFill>
                <a:latin typeface="Bell Gothic Std Black"/>
              </a:rPr>
              <a:t>afpe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.org.uk  (UK subject association for Physical Edu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subjectassociation.org.uk/index.php?page=30 (Council for subject associ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ell Gothic Std Black"/>
              </a:rPr>
              <a:t>http://www.bbc.co.uk/nature/species/Eastern_Grey_Kangaroo (video c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8:15Z</dcterms:created>
  <dc:creator>abithell</dc:creator>
  <dc:description/>
  <dc:language>en-US</dc:language>
  <cp:lastModifiedBy>Michelle</cp:lastModifiedBy>
  <dcterms:modified xsi:type="dcterms:W3CDTF">2010-04-10T08:33:23Z</dcterms:modified>
  <cp:revision>10</cp:revision>
  <dc:subject/>
  <dc:title>Slide 1</dc:title>
</cp:coreProperties>
</file>