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0811-93F4-464E-BF46-645BAAD1B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073F-98C4-4CA5-B8A9-C49EB135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FA28-19A4-4B7C-AEE8-A59C79EAC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AC6A-7245-4B9D-AD0C-CB55571E0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49B9-F09D-4E7D-9661-DE7A64AE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E1A5-83C3-4A7E-93BD-DFEAD293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5F81-8017-4D21-96DD-A8BBA147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38F6-5CB1-457C-8D05-5CC1EC66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21B5-5105-47D8-93DB-366223FE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9BAB-D768-4A36-9F50-052057C2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36F2-72F0-4CCD-A342-9BFFB261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47C2-39C3-4566-B4FF-80CB526D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9FAA-BA56-419F-A017-6184BC2D8F58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bc.co.uk/cbeebies/boogiebeebies/songs/wewanttobefit/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london2012.com/" TargetMode="External"/><Relationship Id="rId2" Type="http://schemas.openxmlformats.org/officeDocument/2006/relationships/hyperlink" Target="http://www.london2012.com/" TargetMode="External"/><Relationship Id="rId3" Type="http://schemas.openxmlformats.org/officeDocument/2006/relationships/hyperlink" Target="http://www.london2012.com/" TargetMode="External"/><Relationship Id="rId4" Type="http://schemas.openxmlformats.org/officeDocument/2006/relationships/hyperlink" Target="http://www.deseducation.org/content_view.asp?did=4042" TargetMode="External"/><Relationship Id="rId5" Type="http://schemas.openxmlformats.org/officeDocument/2006/relationships/hyperlink" Target="http://www.letters-and-sounds.com/" TargetMode="External"/><Relationship Id="rId6" Type="http://schemas.openxmlformats.org/officeDocument/2006/relationships/hyperlink" Target="http://nationalstrategies.standards.dcsf.gov.uk/node/87009" TargetMode="External"/><Relationship Id="rId7" Type="http://schemas.openxmlformats.org/officeDocument/2006/relationships/hyperlink" Target="http://nationalstrategies.standards.dcsf.gov.uk/node/66416" TargetMode="External"/><Relationship Id="rId8" Type="http://schemas.openxmlformats.org/officeDocument/2006/relationships/hyperlink" Target="http://getset.london2012.com/en/home" TargetMode="External"/><Relationship Id="rId9" Type="http://schemas.openxmlformats.org/officeDocument/2006/relationships/hyperlink" Target="http://www.activityvillage.co.uk/summer_olympics.htm" TargetMode="Externa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lympics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214200" y="142920"/>
            <a:ext cx="807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Bell Gothic Std Black"/>
              </a:rPr>
              <a:t>Rolle Primary School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Bell Gothic Std Black"/>
              </a:rPr>
              <a:t>Summer Term Topic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london-2012.png"/>
          <p:cNvPicPr/>
          <p:nvPr/>
        </p:nvPicPr>
        <p:blipFill>
          <a:blip r:embed="rId1"/>
          <a:srcRect l="-619" t="35915" r="0" b="0"/>
          <a:stretch/>
        </p:blipFill>
        <p:spPr>
          <a:xfrm>
            <a:off x="1285920" y="2428920"/>
            <a:ext cx="67467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928800"/>
            <a:ext cx="8962920" cy="572436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3" descr=""/>
          <p:cNvPicPr/>
          <p:nvPr/>
        </p:nvPicPr>
        <p:blipFill>
          <a:blip r:embed="rId2"/>
          <a:stretch/>
        </p:blipFill>
        <p:spPr>
          <a:xfrm>
            <a:off x="1176480" y="-201600"/>
            <a:ext cx="671184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0" y="530280"/>
            <a:ext cx="9144000" cy="632772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3" descr=""/>
          <p:cNvPicPr/>
          <p:nvPr/>
        </p:nvPicPr>
        <p:blipFill>
          <a:blip r:embed="rId2"/>
          <a:stretch/>
        </p:blipFill>
        <p:spPr>
          <a:xfrm>
            <a:off x="1657440" y="-201600"/>
            <a:ext cx="575460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2" descr=""/>
          <p:cNvPicPr/>
          <p:nvPr/>
        </p:nvPicPr>
        <p:blipFill>
          <a:blip r:embed="rId1"/>
          <a:stretch/>
        </p:blipFill>
        <p:spPr>
          <a:xfrm>
            <a:off x="1652760" y="-201600"/>
            <a:ext cx="5754600" cy="1128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2"/>
          <a:srcRect l="12356" t="19491" r="13086" b="8658"/>
          <a:stretch/>
        </p:blipFill>
        <p:spPr>
          <a:xfrm>
            <a:off x="250920" y="936720"/>
            <a:ext cx="889308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1357200" y="3105000"/>
            <a:ext cx="67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bbc.co.uk/cbeebies/boogiebeebies/songs/wewanttobefit/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Rectangle 3" descr=""/>
          <p:cNvPicPr/>
          <p:nvPr/>
        </p:nvPicPr>
        <p:blipFill>
          <a:blip r:embed="rId2"/>
          <a:stretch/>
        </p:blipFill>
        <p:spPr>
          <a:xfrm>
            <a:off x="1779480" y="798480"/>
            <a:ext cx="531036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2"/>
          <p:cNvSpPr/>
          <p:nvPr/>
        </p:nvSpPr>
        <p:spPr>
          <a:xfrm>
            <a:off x="785880" y="285840"/>
            <a:ext cx="621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Bell Gothic Std Black"/>
              </a:rPr>
              <a:t>Resources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642960" y="1143000"/>
            <a:ext cx="7929720" cy="71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1"/>
              </a:rPr>
              <a:t> www.</a:t>
            </a: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2"/>
              </a:rPr>
              <a:t>london2012</a:t>
            </a: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3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www.priorywoods.middlesbrough.sch.uk  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Bell Gothic Std Black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/.../ict/.../soft-daz.ht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4"/>
              </a:rPr>
              <a:t>www.deseducation.org/content_view.asp?did=4042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(Leap into lif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</a:t>
            </a: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5"/>
              </a:rPr>
              <a:t>http://www.letters-and-sounds.com/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(Free resourc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</a:t>
            </a: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6"/>
              </a:rPr>
              <a:t>http://nationalstrategies.standards.dcsf.gov.uk/node/87009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(SE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7"/>
              </a:rPr>
              <a:t>http://nationalstrategies.standards.dcsf.gov.uk/node/664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(Going for Goal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8"/>
              </a:rPr>
              <a:t>http://getset.london2012.com/en/home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(Official Olympic webs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9"/>
              </a:rPr>
              <a:t>http://www.activityvillage.co.uk/summer_olympics.htm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 (Resource webs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http://www.youthsporttrust.org/page/home-welcome/index.html (Support for school spo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www.</a:t>
            </a:r>
            <a:r>
              <a:rPr b="1" lang="en-GB" sz="1400" spc="-1" strike="noStrike">
                <a:solidFill>
                  <a:srgbClr val="000000"/>
                </a:solidFill>
                <a:latin typeface="Bell Gothic Std Black"/>
              </a:rPr>
              <a:t>afpe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.org.uk  (UK subject association for Physical Educ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http://www.subjectassociation.org.uk/index.php?page=30 (Council for subject association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http://www.bbc.co.uk/nature/species/Eastern_Grey_Kangaroo (video clip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11:28:15Z</dcterms:created>
  <dc:creator>abithell</dc:creator>
  <dc:description/>
  <dc:language>en-US</dc:language>
  <cp:lastModifiedBy>Michelle</cp:lastModifiedBy>
  <dcterms:modified xsi:type="dcterms:W3CDTF">2010-04-10T08:33:23Z</dcterms:modified>
  <cp:revision>10</cp:revision>
  <dc:subject/>
  <dc:title>Slide 1</dc:title>
</cp:coreProperties>
</file>