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95130-C78D-4042-B9F4-B5AF7B92E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B8E07-2861-43CD-9285-ECDCCD9B4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D8756-CAF9-451F-B0B2-0984BFAF0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30A1C-727C-4C2F-AEE9-EDD279F4C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124B-EDCC-4E61-B07E-F287BE6B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6A71-DAA4-47D0-8210-379F4F73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31509-B007-460E-88C6-22D24E8D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97780-8696-46B4-9BF3-8B994506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6CE8F-9491-4314-9729-54F7D7B2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A353-83FB-42D5-A911-5CB59BA57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0D378-466D-47D8-856F-EA98C01EA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DB61-F5B1-4B99-B81F-03631F63E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F1F1-39BF-4BF1-AEF6-6E4A5BFAF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ndrelleducation.co.uk/home/" TargetMode="External"/><Relationship Id="rId2" Type="http://schemas.openxmlformats.org/officeDocument/2006/relationships/hyperlink" Target="http://www.andrelleducation.co.uk/home/" TargetMode="External"/><Relationship Id="rId3" Type="http://schemas.openxmlformats.org/officeDocument/2006/relationships/hyperlink" Target="http://www.andrelleducation.co.uk/home/" TargetMode="External"/><Relationship Id="rId4" Type="http://schemas.openxmlformats.org/officeDocument/2006/relationships/hyperlink" Target="http://www.andrelleducation.co.uk/home/"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Writing</a:t>
            </a:r>
            <a:br>
              <a:rPr sz="4400"/>
            </a:br>
            <a:r>
              <a:rPr b="0" lang="en-US" sz="1900" spc="-1" strike="noStrike">
                <a:solidFill>
                  <a:srgbClr val="000000"/>
                </a:solidFill>
                <a:latin typeface="Arial"/>
              </a:rPr>
              <a:t>Ros Wilson</a:t>
            </a:r>
            <a:endParaRPr b="0" lang="en-US" sz="19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457200" y="380880"/>
            <a:ext cx="8153280" cy="611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lk for writing         big writing</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writing leads on from talk for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is to have a session each week to focus on independent writi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usually an hour long.</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 teachers choice for the sessions focus. It can be relevant to the weeks work.</a:t>
            </a:r>
            <a:endParaRPr b="0" lang="en-US" sz="2000" spc="-1" strike="noStrike">
              <a:solidFill>
                <a:srgbClr val="000000"/>
              </a:solidFill>
              <a:latin typeface="Arial"/>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can be as creative as they want with 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 descr=""/>
          <p:cNvPicPr/>
          <p:nvPr/>
        </p:nvPicPr>
        <p:blipFill>
          <a:blip r:embed="rId1"/>
          <a:stretch/>
        </p:blipFill>
        <p:spPr>
          <a:xfrm>
            <a:off x="4495680" y="762120"/>
            <a:ext cx="1295640" cy="80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12c"/>
                </a:solidFill>
                <a:latin typeface="Arial"/>
              </a:rPr>
              <a:t>   </a:t>
            </a:r>
            <a:r>
              <a:rPr b="0" lang="en-US" sz="4400" spc="-1" strike="noStrike">
                <a:solidFill>
                  <a:srgbClr val="fef12c"/>
                </a:solidFill>
                <a:latin typeface="Arial"/>
              </a:rPr>
              <a:t>Learning atmosphere</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From my experience, children have really enjoyed this writing hour.</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y had a tray with lots of different coloured pens - their choice what they used (wonder writing pens!).</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The lights were dimmed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airy lights were switched on.</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Music was played.</a:t>
            </a:r>
            <a:endParaRPr b="0" lang="en-US" sz="2400" spc="-1" strike="noStrike">
              <a:solidFill>
                <a:srgbClr val="000000"/>
              </a:solidFill>
              <a:latin typeface="Arial"/>
            </a:endParaRPr>
          </a:p>
          <a:p>
            <a:pPr marL="343080" indent="-343080">
              <a:lnSpc>
                <a:spcPct val="90000"/>
              </a:lnSpc>
              <a:spcBef>
                <a:spcPts val="601"/>
              </a:spcBef>
              <a:buClr>
                <a:srgbClr val="fef1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A timer was put on interacti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white board with a flicker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12c"/>
                </a:solidFill>
                <a:latin typeface="Arial"/>
              </a:rPr>
              <a:t>	</a:t>
            </a:r>
            <a:r>
              <a:rPr b="0" lang="en-US" sz="2400" spc="-1" strike="noStrike">
                <a:solidFill>
                  <a:srgbClr val="fef12c"/>
                </a:solidFill>
                <a:latin typeface="Arial"/>
              </a:rPr>
              <a:t>fl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5334120" y="3581280"/>
            <a:ext cx="3276360" cy="2862360"/>
          </a:xfrm>
          <a:prstGeom prst="rect">
            <a:avLst/>
          </a:prstGeom>
          <a:ln w="0">
            <a:noFill/>
          </a:ln>
        </p:spPr>
      </p:pic>
      <p:pic>
        <p:nvPicPr>
          <p:cNvPr id="49" name="" descr=""/>
          <p:cNvPicPr/>
          <p:nvPr/>
        </p:nvPicPr>
        <p:blipFill>
          <a:blip r:embed="rId2"/>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ginning of the session (20mins) is a chance for children to share and develop their idea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 up games can be played to encourage pupils to use more extensive range of vocabulary, connectives, openers and punctuation - and to develop the confidence to use them in their writing.</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0000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a:t>
            </a:r>
            <a:r>
              <a:rPr b="0" lang="en-US" sz="2800" spc="-1" strike="noStrike" u="sng">
                <a:solidFill>
                  <a:srgbClr val="009999"/>
                </a:solidFill>
                <a:uFillTx/>
                <a:latin typeface="Arial"/>
                <a:hlinkClick r:id="rId2"/>
              </a:rPr>
              <a:t>andrelleducation</a:t>
            </a:r>
            <a:r>
              <a:rPr b="0" lang="en-US" sz="2800" spc="-1" strike="noStrike" u="sng">
                <a:solidFill>
                  <a:srgbClr val="009999"/>
                </a:solidFill>
                <a:uFillTx/>
                <a:latin typeface="Arial"/>
                <a:hlinkClick r:id="rId3"/>
              </a:rPr>
              <a:t>.co.</a:t>
            </a:r>
            <a:r>
              <a:rPr b="0" lang="en-US" sz="2800" spc="-1" strike="noStrike" u="sng">
                <a:solidFill>
                  <a:srgbClr val="009999"/>
                </a:solidFill>
                <a:uFillTx/>
                <a:latin typeface="Arial"/>
                <a:hlinkClick r:id="rId4"/>
              </a:rPr>
              <a:t>uk/home/</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ear 6, working on vocabulary - ‘wow words’. Usually, the teacher will mainly focus on the child’s use of vocabulary (or the sessions focus) when marking, and not as much on the other are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y a game of pass the parcel. Inside each layer are images (can be objects), that children have to describe. Ideas are recorded on the board (so children do not forget their ideas and can use them in their writing).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ages could be - an alien, a planet, a rocket, a tree, a house, two children etc...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 are then to share ideas about the possible characters, setting, story line.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ldren’s imaginations - many different ideas. Some imagined the found a rocket and found a new planet and met a horrible alien, whilst others imagined waking up on a different planet and the alien helped them get home.</a:t>
            </a:r>
            <a:endParaRPr b="0" lang="en-US" sz="17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98480" y="533520"/>
            <a:ext cx="5518440" cy="55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41600" y="1219320"/>
            <a:ext cx="510840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52480" y="1028880"/>
            <a:ext cx="5334120" cy="50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9240" y="762120"/>
            <a:ext cx="485604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21:49:41Z</dcterms:created>
  <dc:creator>Stacey Bird</dc:creator>
  <dc:description/>
  <dc:language>en-US</dc:language>
  <cp:lastModifiedBy>Stacey Bird</cp:lastModifiedBy>
  <dcterms:modified xsi:type="dcterms:W3CDTF">2010-04-01T08:08:20Z</dcterms:modified>
  <cp:revision>7</cp:revision>
  <dc:subject/>
  <dc:title>Big Writing Ros Wilson</dc:title>
</cp:coreProperties>
</file>