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683-67AF-4FE6-8E73-D669C8A3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A08-3225-4BD8-9AE0-0DB559A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190-7B90-4C84-A9CA-4EAAB102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1A8-DCA4-4F46-9A94-6CDBD9F4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A0E-B60A-4F3D-8F51-5C4FA5F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DED-6D4A-4C7E-A385-08E809A7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FD7-A619-48B8-BAD2-9CD182C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BDA-918E-481A-9888-A49048C3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AE2-1569-41DC-B3CD-B77EDFE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BE6-842A-4101-9242-8584531E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8F9-9939-46A6-9850-BB22B59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06F-6CE4-4BFF-ABD7-2DC8B10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BCD-8432-4039-B5A3-EA5223D264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6.jpeg"/><Relationship Id="rId13" Type="http://schemas.openxmlformats.org/officeDocument/2006/relationships/slide" Target=""/><Relationship Id="rId14" Type="http://schemas.openxmlformats.org/officeDocument/2006/relationships/image" Target="../media/image6.jpeg"/><Relationship Id="rId15" Type="http://schemas.openxmlformats.org/officeDocument/2006/relationships/slide" Target="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hyperlink" Target="http://www.sheffieldtheatres.co.uk/creativedevelopmentprogramme/productions/macbeth/primary.shtml" TargetMode="External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Adriana Van Helftere\AppData\Local\Microsoft\Windows\Temporary Internet Files\Content.IE5\WS4E5XHS\MPj04387880000[1]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5643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Adriana Van Helftere\AppData\Local\Microsoft\Windows\Temporary Internet Files\Content.IE5\WS4E5XHS\MPj04387880000[1].jpg"/>
          <p:cNvPicPr/>
          <p:nvPr/>
        </p:nvPicPr>
        <p:blipFill>
          <a:blip r:embed="rId2"/>
          <a:stretch/>
        </p:blipFill>
        <p:spPr>
          <a:xfrm>
            <a:off x="0" y="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ee full size image"/>
          <p:cNvPicPr/>
          <p:nvPr/>
        </p:nvPicPr>
        <p:blipFill>
          <a:blip r:embed="rId3"/>
          <a:stretch/>
        </p:blipFill>
        <p:spPr>
          <a:xfrm>
            <a:off x="3929040" y="5199120"/>
            <a:ext cx="1285920" cy="165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928880" y="0"/>
            <a:ext cx="4929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 u="sng">
                <a:solidFill>
                  <a:srgbClr val="0000ff"/>
                </a:solidFill>
                <a:uFillTx/>
                <a:latin typeface="Arial Rounded MT Bold"/>
                <a:hlinkClick r:id="rId4" action="ppaction://hlinksldjump"/>
              </a:rPr>
              <a:t>Potions in Scienc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14">
            <a:hlinkClick r:id="rId5" action="ppaction://hlinksldjump"/>
          </p:cNvPr>
          <p:cNvSpPr/>
          <p:nvPr/>
        </p:nvSpPr>
        <p:spPr>
          <a:xfrm>
            <a:off x="3143160" y="4000680"/>
            <a:ext cx="2714760" cy="16430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YF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5">
            <a:hlinkClick r:id="rId6" action="ppaction://hlinksldjump"/>
          </p:cNvPr>
          <p:cNvSpPr/>
          <p:nvPr/>
        </p:nvSpPr>
        <p:spPr>
          <a:xfrm>
            <a:off x="357120" y="5000760"/>
            <a:ext cx="2714760" cy="164304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6">
            <a:hlinkClick r:id="rId7" action="ppaction://hlinksldjump"/>
          </p:cNvPr>
          <p:cNvSpPr/>
          <p:nvPr/>
        </p:nvSpPr>
        <p:spPr>
          <a:xfrm>
            <a:off x="5929200" y="5000760"/>
            <a:ext cx="2714760" cy="16430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2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2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Measur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ecord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Describing and explai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26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9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29200" y="5500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14840" y="38577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6720" y="492912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57960" y="285768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3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aising ques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Plan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valuat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41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2857680"/>
            <a:ext cx="785520" cy="54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0760" y="392904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43160" y="4357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0028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929200" y="542916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152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5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atch an adult demonstrate the experiment.  Discuss what the ingredients look like and smell like.  Encourage the use of different sense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Use the equipment to complete the experiment themselves.  What can they see?  What happens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ke photographs at the different stages for discussion later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5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ncentrating on measuring different quantities of vinegar (keeping the same quantity of bicarb).   What happe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Recording the resul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Describing the results and providing an expla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6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67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ming up with a question that can be answered through tes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eveloping a plan to answer their question, remembering that they can only change one variable at a tim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oosing appropriate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valuating the process they have been through.  What went well and what didn’t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7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7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nowledge and Understanding of the World – Exploration and Investig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scribe and talk about what they see (30-50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Show an awareness of change (40-60+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Investigate objects and materials by using all of their senses as appropriate (Early Learning Go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8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8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Pupils collect observations, evidence and measurements to explain which mixture produces the best re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g. Communicate what has happened using I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h. Make simple comparisons and identify simple pattern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9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d. Make a fair test or comparison by changing one factor and observing or measuring the effect while keeping other factors in m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m. Review their work and the work of others and describe its significance and lim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3 Materials and their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a. Describe changes that occur when materials are mix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f. Find out that non-reversible changes result in the formation of new materia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9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Read ‘Meg’s Cauldron’ by Helen Nicoll &amp; Jan Pi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ows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ggest to the children that they might want to help Meg make a magic potion.  Think about what the magic potion might do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the experiment.  Explaining what you are doing and support children in extending their vocabular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0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onsider using a similar introduction as used for Foundation Stag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the room up and dress up as an Alchemist.  Invite the children in and explain who you are and what you do.  Demonstrate the experiment whilst in rol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1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491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Making a Po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50004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quipment neede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to 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Factors that can influence the rate of reac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is happen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ther idea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ooks and websit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Left Arrow 5"/>
          <p:cNvGrpSpPr/>
          <p:nvPr/>
        </p:nvGrpSpPr>
        <p:grpSpPr>
          <a:xfrm>
            <a:off x="-60480" y="152280"/>
            <a:ext cx="1328760" cy="1322640"/>
            <a:chOff x="-60480" y="152280"/>
            <a:chExt cx="1328760" cy="1322640"/>
          </a:xfrm>
        </p:grpSpPr>
        <p:pic>
          <p:nvPicPr>
            <p:cNvPr id="53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52280"/>
              <a:ext cx="1328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3120" y="492120"/>
              <a:ext cx="911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6" descr="http://t1.gstatic.com/images?q=tbn:vTZ5grIvj6z4NM:http://hattitudedivas.com/calendars/2009/witch-hat-clipar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29160" y="1643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1.gstatic.com/images?q=tbn:vTZ5grIvj6z4NM:http://hattitudedivas.com/calendars/2009/witch-hat-clipar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0800" y="41432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1.gstatic.com/images?q=tbn:vTZ5grIvj6z4NM:http://hattitudedivas.com/calendars/2009/witch-hat-clipart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3429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vTZ5grIvj6z4NM:http://hattitudedivas.com/calendars/2009/witch-hat-clipart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t1.gstatic.com/images?q=tbn:vTZ5grIvj6z4NM:http://hattitudedivas.com/calendars/2009/witch-hat-clipart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714840" y="471492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1.gstatic.com/images?q=tbn:vTZ5grIvj6z4NM:http://hattitudedivas.com/calendars/2009/witch-hat-clipart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00800" y="53578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1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1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up the room and dress up as a plague doctor (consider your class.  Will they be scared if you wear the mask?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xplain that you are trying to make a potion to help protect you against the plague.  Demonstrat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2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xploring and play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explore and play with different potion ingred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is can be completed inside mixing different ingredients such as flour, water, oil, glitter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Outside, children can collect ingredients from a local gre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talk about what they are doing and to use different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e the opportunity to talk about safety – putting things in mouth, washing han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3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aising ques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ow the children to try the experiment once or watch you model the experi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Can they develop questions that can be answered by an experiment e.g. what happens if you add more vineg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work in pairs can they think of three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en create groups of four.  Can they whittle the six questions down to f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eed back to the whol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3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Plann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Get the children to design their own experiment based around a question that you pose or they have come up wi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Remind them that there should only be one variab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Use planning boards to help guide the proces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How are they going to measure succes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ut out a range of equipment for the children to choose from.  Include a wide variety such as latex gloves or balloons (these can be placed over conical flasks during the experiment and should be inflated by the CO</a:t>
            </a:r>
            <a:r>
              <a:rPr b="0" lang="en-GB" sz="25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produced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4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4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Using equipm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the children to be independent in their use of equipment.  They can develop skills such as pouring and measuring in a safe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Use basic measurements such as a small cup of vinegar poured into a bigger c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and support as needed.  Use correct terminology for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5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5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Measur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more accurate measure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Begin with putting an obvious mark on the edge of a measuring beaker so the children know where to pour the liquid up t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this further by highlighting the measurements in 10’s up the side and ask the children to find 40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ow far up the side of the beaker do the bubbles travel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6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6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bserv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observations before, during and after the experi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does it look like?  Colour?  Smell?  Tex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pport and develop languag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sk the children to take pictures of the experiment at the different stages that can be used for a whole class discuss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7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ecord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Ask the children to measure out different amounts of vinegar measure how high the bubbles reach by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king photo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ing the scale up the side of the be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ping paper to the side and marking on the paper where the bubbles reach (labelling the mar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Use textease to show recordings from the experiment – using pictures or simple tabl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7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28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Describing results and explai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ncourage the children to describe and explain what happened using pictures and writing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Remember, the children will be working at different level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Describ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Comparing observations and making li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Explanations from observations and ideas ( Immedi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8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8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8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valuat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nce the children have completed their experiments can they say if it work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d they find the answer to their question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as there only one variable us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could they do next time to make it better?  What would they keep the sam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9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Equipment needed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otion bottles (plastic cups, bottles, beaker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Vinega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icarbonate of so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blespo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Measuring beaker (40ml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lay tray (to catch the drip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ptional extra – food colou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66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9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9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ED – Looking at keeping safe.  Is it safe to taste ingredients when we don’t know what they 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LL – Listen to and experience books such as Meg’s Cauldron (Helen Nicoll &amp; Jan Pi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kowski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RN – Filling and emptying containers making potions using other ingredients e.g. coloured water, soil, flour, glitter and o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D – Use different tools to make potion pictures / witches hats / cauldr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D – Can they turn the role play corner into a home for Meg and Mog?  What needs to go in there?  How will they make it? (CLL can be incorporated for sign making etc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0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0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History – Alchemy (Sir Isaac Newton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rama – Create a story about an alchemist in groups; show to the class using the freeze frame method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&amp;T – make quick bread (the no yeast type).  The CO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 produced is what makes if nice and fluffy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t1.gstatic.com/images?q=tbn:AMwV4RY8eN16zM:http://www.lcusd.net/170220915133053920/lib/170220915133053920/flask.jpg"/>
          <p:cNvPicPr/>
          <p:nvPr/>
        </p:nvPicPr>
        <p:blipFill>
          <a:blip r:embed="rId1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1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12" name="Title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aths – make potions with using different proportions of coloured liquids to make a given to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English – Witches scene in Macbeth (Drama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istory and Geography – the plagu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usic – Listen to the Sorcerer’s Apprentice.  What images came to mind?  Did they like the music or not? 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16" name="Left Arrow 7" descr=""/>
            <p:cNvPicPr/>
            <p:nvPr/>
          </p:nvPicPr>
          <p:blipFill>
            <a:blip r:embed="rId3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to d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asure out approximately 40ml of vinegar and pour into the potion bott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dd approximately one tablespoon of bicarbonate of so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Watch what happ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Left Arrow 6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73" name="Left Arrow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ctors that can Influ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he Rate of Re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vinegar u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alt vinegar results in a very thick bubbly mixture that gradually disappea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stilled malt vinegar results in a very fast reaction and a thin mixture that disappears quick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food colouring used affects the speed of reac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Left Arrow 7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0" name="Left Arrow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is happening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he mixture bubbles up because the reaction produces </a:t>
            </a:r>
            <a:r>
              <a:rPr b="0" lang="en-GB" sz="3400" spc="-1" strike="noStrike">
                <a:solidFill>
                  <a:srgbClr val="9bbb59"/>
                </a:solidFill>
                <a:latin typeface="Arial Rounded MT Bold"/>
              </a:rPr>
              <a:t>carbon dioxide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Vinegar (ethanoic acid / 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icarbonate of Soda (Sodium bicarbonate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 +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Na +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is unstable and breaks down to become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 + </a:t>
            </a:r>
            <a:r>
              <a:rPr b="1" lang="en-GB" sz="3400" spc="-1" strike="noStrike">
                <a:solidFill>
                  <a:srgbClr val="9bbb59"/>
                </a:solidFill>
                <a:latin typeface="Arial Rounded MT Bold"/>
              </a:rPr>
              <a:t>CO</a:t>
            </a:r>
            <a:r>
              <a:rPr b="1" lang="en-GB" sz="3400" spc="-1" strike="noStrike" baseline="-25000">
                <a:solidFill>
                  <a:srgbClr val="9bbb59"/>
                </a:solidFill>
                <a:latin typeface="Arial Rounded MT Bold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7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0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1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ther Id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Latex gloves and balloons can be used in this experiment by fitting over the mouth of the flask while the reaction is occurring.  The 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produced should blow them 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nvestigate acids and alkalis using litmus pap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dd food colouring to make it more exci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95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8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9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Books and websit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g’s Cauldron – Helen Nicoll &amp; Jan Pi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kows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heffieldtheatres.co.uk/creativedevelopmentprogramme/productions/macbeth/primary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03" name="Left Arrow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0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0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Foundation St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xploring and play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Using equi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Observ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11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291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72120" y="3929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286680" y="557208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215040" y="29289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5:04Z</dcterms:created>
  <dc:creator>Adriana Van Helftere</dc:creator>
  <dc:description/>
  <dc:language>en-US</dc:language>
  <cp:lastModifiedBy>mboniface</cp:lastModifiedBy>
  <dcterms:modified xsi:type="dcterms:W3CDTF">2010-04-16T10:43:17Z</dcterms:modified>
  <cp:revision>144</cp:revision>
  <dc:subject/>
  <dc:title>Slide 1</dc:title>
</cp:coreProperties>
</file>