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8026-2D2E-44CF-88BD-9304AB61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6F0-B06A-4592-A6C4-52BBCC57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746-068C-4F57-BFF1-61131F1E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571-5127-4516-A4A7-600CFAA6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B00-8D28-4630-8849-0FBF2657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153-4F6E-46F0-9C08-FCDB3D93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18C1-A65B-4EDA-8227-40F4F0B9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5A9-33C1-4F94-848A-988AFB5D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DAF-23CD-404E-B3D9-BD089428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EFC0-41AF-4762-96EA-68FEB61E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B8A-20BF-431C-9BBE-75097E07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ED46-C7B3-4A80-9813-AE1F1722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F37B-9027-4EC3-8262-C2C72C19D08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" Target=""/><Relationship Id="rId7" Type="http://schemas.openxmlformats.org/officeDocument/2006/relationships/image" Target="../media/image6.jpeg"/><Relationship Id="rId8" Type="http://schemas.openxmlformats.org/officeDocument/2006/relationships/slide" Target=""/><Relationship Id="rId9" Type="http://schemas.openxmlformats.org/officeDocument/2006/relationships/image" Target="../media/image6.jpeg"/><Relationship Id="rId10" Type="http://schemas.openxmlformats.org/officeDocument/2006/relationships/slide" Target=""/><Relationship Id="rId11" Type="http://schemas.openxmlformats.org/officeDocument/2006/relationships/image" Target="../media/image6.jpeg"/><Relationship Id="rId12" Type="http://schemas.openxmlformats.org/officeDocument/2006/relationships/slide" Target=""/><Relationship Id="rId13" Type="http://schemas.openxmlformats.org/officeDocument/2006/relationships/image" Target="../media/image6.jpeg"/><Relationship Id="rId14" Type="http://schemas.openxmlformats.org/officeDocument/2006/relationships/slide" Target=""/><Relationship Id="rId15" Type="http://schemas.openxmlformats.org/officeDocument/2006/relationships/image" Target="../media/image6.jpeg"/><Relationship Id="rId16" Type="http://schemas.openxmlformats.org/officeDocument/2006/relationships/slide" Target=""/><Relationship Id="rId17" Type="http://schemas.openxmlformats.org/officeDocument/2006/relationships/image" Target="../media/image6.jpeg"/><Relationship Id="rId18" Type="http://schemas.openxmlformats.org/officeDocument/2006/relationships/slide" Target="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" Target=""/><Relationship Id="rId7" Type="http://schemas.openxmlformats.org/officeDocument/2006/relationships/image" Target="../media/image6.jpeg"/><Relationship Id="rId8" Type="http://schemas.openxmlformats.org/officeDocument/2006/relationships/slide" Target=""/><Relationship Id="rId9" Type="http://schemas.openxmlformats.org/officeDocument/2006/relationships/image" Target="../media/image6.jpeg"/><Relationship Id="rId10" Type="http://schemas.openxmlformats.org/officeDocument/2006/relationships/slide" Target=""/><Relationship Id="rId11" Type="http://schemas.openxmlformats.org/officeDocument/2006/relationships/image" Target="../media/image6.jpeg"/><Relationship Id="rId12" Type="http://schemas.openxmlformats.org/officeDocument/2006/relationships/slide" Target=""/><Relationship Id="rId13" Type="http://schemas.openxmlformats.org/officeDocument/2006/relationships/image" Target="../media/image6.jpeg"/><Relationship Id="rId14" Type="http://schemas.openxmlformats.org/officeDocument/2006/relationships/slide" Target=""/><Relationship Id="rId15" Type="http://schemas.openxmlformats.org/officeDocument/2006/relationships/image" Target="../media/image6.jpeg"/><Relationship Id="rId16" Type="http://schemas.openxmlformats.org/officeDocument/2006/relationships/slide" Target=""/><Relationship Id="rId17" Type="http://schemas.openxmlformats.org/officeDocument/2006/relationships/image" Target="../media/image6.jpeg"/><Relationship Id="rId18" Type="http://schemas.openxmlformats.org/officeDocument/2006/relationships/slide" Target="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4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slide" Target=""/><Relationship Id="rId6" Type="http://schemas.openxmlformats.org/officeDocument/2006/relationships/image" Target="../media/image6.jpeg"/><Relationship Id="rId7" Type="http://schemas.openxmlformats.org/officeDocument/2006/relationships/slide" Target=""/><Relationship Id="rId8" Type="http://schemas.openxmlformats.org/officeDocument/2006/relationships/image" Target="../media/image6.jpeg"/><Relationship Id="rId9" Type="http://schemas.openxmlformats.org/officeDocument/2006/relationships/slide" Target=""/><Relationship Id="rId10" Type="http://schemas.openxmlformats.org/officeDocument/2006/relationships/image" Target="../media/image6.jpeg"/><Relationship Id="rId11" Type="http://schemas.openxmlformats.org/officeDocument/2006/relationships/slide" Target=""/><Relationship Id="rId12" Type="http://schemas.openxmlformats.org/officeDocument/2006/relationships/image" Target="../media/image6.jpeg"/><Relationship Id="rId13" Type="http://schemas.openxmlformats.org/officeDocument/2006/relationships/slide" Target=""/><Relationship Id="rId14" Type="http://schemas.openxmlformats.org/officeDocument/2006/relationships/image" Target="../media/image6.jpeg"/><Relationship Id="rId15" Type="http://schemas.openxmlformats.org/officeDocument/2006/relationships/slide" Target=""/><Relationship Id="rId16" Type="http://schemas.openxmlformats.org/officeDocument/2006/relationships/image" Target="../media/image6.jpe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9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hyperlink" Target="http://www.sheffieldtheatres.co.uk/creativedevelopmentprogramme/productions/macbeth/primary.shtml" TargetMode="External"/><Relationship Id="rId5" Type="http://schemas.openxmlformats.org/officeDocument/2006/relationships/slide" Target="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0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" Target=""/><Relationship Id="rId7" Type="http://schemas.openxmlformats.org/officeDocument/2006/relationships/image" Target="../media/image6.jpeg"/><Relationship Id="rId8" Type="http://schemas.openxmlformats.org/officeDocument/2006/relationships/slide" Target=""/><Relationship Id="rId9" Type="http://schemas.openxmlformats.org/officeDocument/2006/relationships/image" Target="../media/image6.jpeg"/><Relationship Id="rId10" Type="http://schemas.openxmlformats.org/officeDocument/2006/relationships/slide" Target=""/><Relationship Id="rId11" Type="http://schemas.openxmlformats.org/officeDocument/2006/relationships/image" Target="../media/image6.jpeg"/><Relationship Id="rId12" Type="http://schemas.openxmlformats.org/officeDocument/2006/relationships/slide" Target=""/><Relationship Id="rId13" Type="http://schemas.openxmlformats.org/officeDocument/2006/relationships/image" Target="../media/image6.jpeg"/><Relationship Id="rId14" Type="http://schemas.openxmlformats.org/officeDocument/2006/relationships/slide" Target=""/><Relationship Id="rId15" Type="http://schemas.openxmlformats.org/officeDocument/2006/relationships/image" Target="../media/image6.jpeg"/><Relationship Id="rId16" Type="http://schemas.openxmlformats.org/officeDocument/2006/relationships/slide" Target=""/><Relationship Id="rId17" Type="http://schemas.openxmlformats.org/officeDocument/2006/relationships/image" Target="../media/image6.jpeg"/><Relationship Id="rId18" Type="http://schemas.openxmlformats.org/officeDocument/2006/relationships/slide" Target="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Adriana Van Helftere\AppData\Local\Microsoft\Windows\Temporary Internet Files\Content.IE5\WS4E5XHS\MPj04387880000[1].jpg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5643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Adriana Van Helftere\AppData\Local\Microsoft\Windows\Temporary Internet Files\Content.IE5\WS4E5XHS\MPj04387880000[1].jpg"/>
          <p:cNvPicPr/>
          <p:nvPr/>
        </p:nvPicPr>
        <p:blipFill>
          <a:blip r:embed="rId2"/>
          <a:stretch/>
        </p:blipFill>
        <p:spPr>
          <a:xfrm>
            <a:off x="0" y="0"/>
            <a:ext cx="4643280" cy="5715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See full size image"/>
          <p:cNvPicPr/>
          <p:nvPr/>
        </p:nvPicPr>
        <p:blipFill>
          <a:blip r:embed="rId3"/>
          <a:stretch/>
        </p:blipFill>
        <p:spPr>
          <a:xfrm>
            <a:off x="3929040" y="5199120"/>
            <a:ext cx="1285920" cy="165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1928880" y="0"/>
            <a:ext cx="49291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 u="sng">
                <a:solidFill>
                  <a:srgbClr val="0000ff"/>
                </a:solidFill>
                <a:uFillTx/>
                <a:latin typeface="Arial Rounded MT Bold"/>
                <a:hlinkClick r:id="rId4" action="ppaction://hlinksldjump"/>
              </a:rPr>
              <a:t>Potions in Scienc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14">
            <a:hlinkClick r:id="rId5" action="ppaction://hlinksldjump"/>
          </p:cNvPr>
          <p:cNvSpPr/>
          <p:nvPr/>
        </p:nvSpPr>
        <p:spPr>
          <a:xfrm>
            <a:off x="3143160" y="4000680"/>
            <a:ext cx="2714760" cy="164304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EYF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15">
            <a:hlinkClick r:id="rId6" action="ppaction://hlinksldjump"/>
          </p:cNvPr>
          <p:cNvSpPr/>
          <p:nvPr/>
        </p:nvSpPr>
        <p:spPr>
          <a:xfrm>
            <a:off x="357120" y="5000760"/>
            <a:ext cx="2714760" cy="1643040"/>
          </a:xfrm>
          <a:prstGeom prst="ellipse">
            <a:avLst/>
          </a:prstGeom>
          <a:solidFill>
            <a:srgbClr val="4bacc6"/>
          </a:solidFill>
          <a:ln w="25560">
            <a:solidFill>
              <a:srgbClr val="385d8a"/>
            </a:solidFill>
            <a:miter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Arial Rounded MT Bold"/>
              </a:rPr>
              <a:t>KS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16">
            <a:hlinkClick r:id="rId7" action="ppaction://hlinksldjump"/>
          </p:cNvPr>
          <p:cNvSpPr/>
          <p:nvPr/>
        </p:nvSpPr>
        <p:spPr>
          <a:xfrm>
            <a:off x="5929200" y="5000760"/>
            <a:ext cx="2714760" cy="164304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Arial Rounded MT Bold"/>
              </a:rPr>
              <a:t>KS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21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22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Potions for 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Key Stage 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hat will the children be doing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urriculum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Introducing the activit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Scientific enqui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Measur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Record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Describing and explain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ross-curricular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Left Arrow 14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26" name="Left Arrow 14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8" name="Picture 6" descr="http://t1.gstatic.com/images?q=tbn:vTZ5grIvj6z4NM:http://hattitudedivas.com/calendars/2009/witch-hat-clipart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71920" y="442908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t1.gstatic.com/images?q=tbn:vTZ5grIvj6z4NM:http://hattitudedivas.com/calendars/2009/witch-hat-clipart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929200" y="550080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://t1.gstatic.com/images?q=tbn:vTZ5grIvj6z4NM:http://hattitudedivas.com/calendars/2009/witch-hat-clipart.gi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14840" y="385776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http://t1.gstatic.com/images?q=tbn:vTZ5grIvj6z4NM:http://hattitudedivas.com/calendars/2009/witch-hat-clipart.gi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86720" y="4929120"/>
            <a:ext cx="785520" cy="544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ttp://t1.gstatic.com/images?q=tbn:vTZ5grIvj6z4NM:http://hattitudedivas.com/calendars/2009/witch-hat-clipart.gi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357960" y="285768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http://t1.gstatic.com/images?q=tbn:vTZ5grIvj6z4NM:http://hattitudedivas.com/calendars/2009/witch-hat-clipart.gi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4788000" y="228600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http://t1.gstatic.com/images?q=tbn:vTZ5grIvj6z4NM:http://hattitudedivas.com/calendars/2009/witch-hat-clipart.gif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8244000" y="1714680"/>
            <a:ext cx="785880" cy="54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36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37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Potions for 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Key Stage 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hat will the children be doing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urriculum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Introducing the activit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Scientific enqui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Raising question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Plann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Evaluat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ross-curricular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Left Arrow 14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41" name="Left Arrow 14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3" name="Picture 6" descr="http://t1.gstatic.com/images?q=tbn:vTZ5grIvj6z4NM:http://hattitudedivas.com/calendars/2009/witch-hat-clipart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14920" y="228600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http://t1.gstatic.com/images?q=tbn:vTZ5grIvj6z4NM:http://hattitudedivas.com/calendars/2009/witch-hat-clipart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86680" y="2857680"/>
            <a:ext cx="785520" cy="544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http://t1.gstatic.com/images?q=tbn:vTZ5grIvj6z4NM:http://hattitudedivas.com/calendars/2009/witch-hat-clipart.gi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000760" y="3929040"/>
            <a:ext cx="785520" cy="544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http://t1.gstatic.com/images?q=tbn:vTZ5grIvj6z4NM:http://hattitudedivas.com/calendars/2009/witch-hat-clipart.gi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143160" y="435780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t1.gstatic.com/images?q=tbn:vTZ5grIvj6z4NM:http://hattitudedivas.com/calendars/2009/witch-hat-clipart.gi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500280" y="492912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ttp://t1.gstatic.com/images?q=tbn:vTZ5grIvj6z4NM:http://hattitudedivas.com/calendars/2009/witch-hat-clipart.gi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929200" y="542916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http://t1.gstatic.com/images?q=tbn:vTZ5grIvj6z4NM:http://hattitudedivas.com/calendars/2009/witch-hat-clipart.gif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8215200" y="1714680"/>
            <a:ext cx="785880" cy="54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51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52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What will the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children be doing?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atch an adult demonstrate the experiment.  Discuss what the ingredients look like and smell like.  Encourage the use of different senses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Use the equipment to complete the experiment themselves.  What can they see?  What happens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Take photographs at the different stages for discussion later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56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59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60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What will the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children be doing?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Concentrating on measuring different quantities of vinegar (keeping the same quantity of bicarb).   What happe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Recording the resul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Describing the results and providing an explana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64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67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68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What will the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children be doing?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ming up with a question that can be answered through testing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Developing a plan to answer their question, remembering that they can only change one variable at a tim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hoosing appropriate equip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Evaluating the process they have been through.  What went well and what didn’t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72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75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176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urriculum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Knowledge and Understanding of the World – Exploration and Investig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Describe and talk about what they see (30-50 months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Show an awareness of change (40-60+ months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Investigate objects and materials by using all of their senses as appropriate (Early Learning Goal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80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83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184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urriculum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Sc1 Scientific enquir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Pupils collect observations, evidence and measurements to explain which mixture produces the best reaction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2g. Communicate what has happened using IC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2h. Make simple comparisons and identify simple pattern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88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91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192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urriculum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c1 Scientific enqui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2d. Make a fair test or comparison by changing one factor and observing or measuring the effect while keeping other factors in min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2m. Review their work and the work of others and describe its significance and limit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c3 Materials and their prope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2a. Describe changes that occur when materials are mix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2f. Find out that non-reversible changes result in the formation of new material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96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99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00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Introducing the activit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Read ‘Meg’s Cauldron’ by Helen Nicoll &amp; Jan Pie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Arial"/>
              </a:rPr>
              <a:t>ń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kowski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Suggest to the children that they might want to help Meg make a magic potion.  Think about what the magic potion might do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Model the experiment.  Explaining what you are doing and support children in extending their vocabular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04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07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08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Introducing the activit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onsider using a similar introduction as used for Foundation Stage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Set the room up and dress up as an Alchemist.  Invite the children in and explain who you are and what you do.  Demonstrate the experiment whilst in role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12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457200" y="24912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fffff"/>
                </a:solidFill>
                <a:latin typeface="Arial Rounded MT Bold"/>
              </a:rPr>
              <a:t>Making a Potion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50004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Equipment needed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hat to do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Factors that can influence the rate of reac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hat is happening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Other idea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Books and websit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Left Arrow 5"/>
          <p:cNvGrpSpPr/>
          <p:nvPr/>
        </p:nvGrpSpPr>
        <p:grpSpPr>
          <a:xfrm>
            <a:off x="-60480" y="152280"/>
            <a:ext cx="1328760" cy="1322640"/>
            <a:chOff x="-60480" y="152280"/>
            <a:chExt cx="1328760" cy="1322640"/>
          </a:xfrm>
        </p:grpSpPr>
        <p:pic>
          <p:nvPicPr>
            <p:cNvPr id="53" name="Left Arrow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60480" y="152280"/>
              <a:ext cx="132876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03120" y="492120"/>
              <a:ext cx="91116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6" descr="http://t1.gstatic.com/images?q=tbn:vTZ5grIvj6z4NM:http://hattitudedivas.com/calendars/2009/witch-hat-clipart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29160" y="164304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t1.gstatic.com/images?q=tbn:vTZ5grIvj6z4NM:http://hattitudedivas.com/calendars/2009/witch-hat-clipart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500800" y="414324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t1.gstatic.com/images?q=tbn:vTZ5grIvj6z4NM:http://hattitudedivas.com/calendars/2009/witch-hat-clipart.gi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572000" y="342900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t1.gstatic.com/images?q=tbn:vTZ5grIvj6z4NM:http://hattitudedivas.com/calendars/2009/witch-hat-clipart.gi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429000" y="228600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t1.gstatic.com/images?q=tbn:vTZ5grIvj6z4NM:http://hattitudedivas.com/calendars/2009/witch-hat-clipart.gi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714840" y="471492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t1.gstatic.com/images?q=tbn:vTZ5grIvj6z4NM:http://hattitudedivas.com/calendars/2009/witch-hat-clipart.gi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500800" y="5357880"/>
            <a:ext cx="785880" cy="54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15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16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Introducing the activit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Set up the room and dress up as a plague doctor (consider your class.  Will they be scared if you wear the mask?)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Explain that you are trying to make a potion to help protect you against the plague.  Demonstrate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20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23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24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Exploring and play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Encourage the children to explore and play with different potion ingredi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his can be completed inside mixing different ingredients such as flour, water, oil, glitter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Outside, children can collect ingredients from a local green ar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Encourage the children to talk about what they are doing and to use different sen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Use the opportunity to talk about safety – putting things in mouth, washing hands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28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31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32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Raising question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Allow the children to try the experiment once or watch you model the experi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Can they develop questions that can be answered by an experiment e.g. what happens if you add more vinega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Encourage the children to work in pairs can they think of three ques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hen create groups of four.  Can they whittle the six questions down to f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Feed back to the whole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36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39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40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Plann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Get the children to design their own experiment based around a question that you pose or they have come up wit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Remind them that there should only be one variab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Use planning boards to help guide the proces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How are they going to measure succes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Put out a range of equipment for the children to choose from.  Include a wide variety such as latex gloves or balloons (these can be placed over conical flasks during the experiment and should be inflated by the CO</a:t>
            </a:r>
            <a:r>
              <a:rPr b="0" lang="en-GB" sz="25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 produced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44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47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48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Using equipmen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Encourage the children to be independent in their use of equipment.  They can develop skills such as pouring and measuring in a safe environ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Use basic measurements such as a small cup of vinegar poured into a bigger cup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Model and support as needed.  Use correct terminology for equip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52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55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56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Measur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Develop more accurate measuremen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Begin with putting an obvious mark on the edge of a measuring beaker so the children know where to pour the liquid up t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Develop this further by highlighting the measurements in 10’s up the side and ask the children to find 40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How far up the side of the beaker do the bubbles travel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60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63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64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Observ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Encourage observations before, during and after the experi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What does it look like?  Colour?  Smell?  Texture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Support and develop languag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Ask the children to take pictures of the experiment at the different stages that can be used for a whole class discuss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68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71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72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Record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Ask the children to measure out different amounts of vinegar measure how high the bubbles reach by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aking photogra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Using the scale up the side of the bea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aping paper to the side and marking on the paper where the bubbles reach (labelling the mark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Use textease to show recordings from the experiment – using pictures or simple table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5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76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79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280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Describing results and explaining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Encourage the children to describe and explain what happened using pictures and writing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Remember, the children will be working at different levels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Rounded MT Bold"/>
              </a:rPr>
              <a:t>Describ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Rounded MT Bold"/>
              </a:rPr>
              <a:t>Comparing observations and making li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Rounded MT Bold"/>
              </a:rPr>
              <a:t>Explanations from observations and ideas ( Immedia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84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87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88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Evaluat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Once the children have completed their experiments can they say if it worked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Did they find the answer to their question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Was there only one variable used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What could they do next time to make it better?  What would they keep the same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92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fffff"/>
                </a:solidFill>
                <a:latin typeface="Arial Rounded MT Bold"/>
              </a:rPr>
              <a:t>Equipment needed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Potion bottles (plastic cups, bottles, beakers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Vinega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Bicarbonate of soda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Tablespo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Measuring beaker (40ml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Play tray (to catch the drips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Optional extra – food colouring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Left Arrow 5"/>
          <p:cNvGrpSpPr/>
          <p:nvPr/>
        </p:nvGrpSpPr>
        <p:grpSpPr>
          <a:xfrm>
            <a:off x="-60480" y="176040"/>
            <a:ext cx="1328760" cy="1324080"/>
            <a:chOff x="-60480" y="176040"/>
            <a:chExt cx="1328760" cy="1324080"/>
          </a:xfrm>
        </p:grpSpPr>
        <p:pic>
          <p:nvPicPr>
            <p:cNvPr id="66" name="Left Arrow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60480" y="17604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03120" y="517680"/>
              <a:ext cx="91116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95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96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ross-curricular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PSED – Looking at keeping safe.  Is it safe to taste ingredients when we don’t know what they ar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CLL – Listen to and experience books such as Meg’s Cauldron (Helen Nicoll &amp; Jan Pie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ń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kowski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PSRN – Filling and emptying containers making potions using other ingredients e.g. coloured water, soil, flour, glitter and o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PD – Use different tools to make potion pictures / witches hats / cauldr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CD – Can they turn the role play corner into a home for Meg and Mog?  What needs to go in there?  How will they make it? (CLL can be incorporated for sign making etc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9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300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303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304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ross-curricular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History – Alchemy (Sir Isaac Newton)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Drama – Create a story about an alchemist in groups; show to the class using the freeze frame method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D&amp;T – make quick bread (the no yeast type).  The CO</a:t>
            </a:r>
            <a:r>
              <a:rPr b="0" lang="en-GB" sz="37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 produced is what makes if nice and fluffy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7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308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ttp://t1.gstatic.com/images?q=tbn:AMwV4RY8eN16zM:http://www.lcusd.net/170220915133053920/lib/170220915133053920/flask.jpg"/>
          <p:cNvPicPr/>
          <p:nvPr/>
        </p:nvPicPr>
        <p:blipFill>
          <a:blip r:embed="rId1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311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312" name="Title 1" descr=""/>
            <p:cNvPicPr/>
            <p:nvPr/>
          </p:nvPicPr>
          <p:blipFill>
            <a:blip r:embed="rId2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ross-curricular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Maths – make potions with using different proportions of coloured liquids to make a given tota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English – Witches scene in Macbeth (Drama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History and Geography – the plague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Music – Listen to the Sorcerer’s Apprentice.  What images came to mind?  Did they like the music or not?  Why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316" name="Left Arrow 7" descr=""/>
            <p:cNvPicPr/>
            <p:nvPr/>
          </p:nvPicPr>
          <p:blipFill>
            <a:blip r:embed="rId3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fffff"/>
                </a:solidFill>
                <a:latin typeface="Arial Rounded MT Bold"/>
              </a:rPr>
              <a:t>What to do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Measure out approximately 40ml of vinegar and pour into the potion bottl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Add approximately one tablespoon of bicarbonate of sod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Watch what happe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Left Arrow 6"/>
          <p:cNvGrpSpPr/>
          <p:nvPr/>
        </p:nvGrpSpPr>
        <p:grpSpPr>
          <a:xfrm>
            <a:off x="-60480" y="176040"/>
            <a:ext cx="1328760" cy="1324080"/>
            <a:chOff x="-60480" y="176040"/>
            <a:chExt cx="1328760" cy="1324080"/>
          </a:xfrm>
        </p:grpSpPr>
        <p:pic>
          <p:nvPicPr>
            <p:cNvPr id="73" name="Left Arrow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60480" y="17604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03120" y="517680"/>
              <a:ext cx="91116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Factors that can Influenc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he Rate of Re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Type of vinegar used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Malt vinegar results in a very thick bubbly mixture that gradually disappear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Distilled malt vinegar results in a very fast reaction and a thin mixture that disappears quickl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Type of food colouring used affects the speed of reac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Left Arrow 7"/>
          <p:cNvGrpSpPr/>
          <p:nvPr/>
        </p:nvGrpSpPr>
        <p:grpSpPr>
          <a:xfrm>
            <a:off x="-60480" y="176040"/>
            <a:ext cx="1328760" cy="1324080"/>
            <a:chOff x="-60480" y="176040"/>
            <a:chExt cx="1328760" cy="1324080"/>
          </a:xfrm>
        </p:grpSpPr>
        <p:pic>
          <p:nvPicPr>
            <p:cNvPr id="80" name="Left Arrow 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60480" y="17604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03120" y="517680"/>
              <a:ext cx="91116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fffff"/>
                </a:solidFill>
                <a:latin typeface="Arial Rounded MT Bold"/>
              </a:rPr>
              <a:t>What is happening?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ontent Placeholder 2"/>
          <p:cNvSpPr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The mixture bubbles up because the reaction produces </a:t>
            </a:r>
            <a:r>
              <a:rPr b="0" lang="en-GB" sz="3400" spc="-1" strike="noStrike">
                <a:solidFill>
                  <a:srgbClr val="9bbb59"/>
                </a:solidFill>
                <a:latin typeface="Arial Rounded MT Bold"/>
              </a:rPr>
              <a:t>carbon dioxide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Vinegar (ethanoic acid / C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OH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Bicarbonate of Soda (Sodium bicarbonate NaHCO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OH + NaHCO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GB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ONa + 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 is unstable and breaks down to become 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O + </a:t>
            </a:r>
            <a:r>
              <a:rPr b="1" lang="en-GB" sz="3400" spc="-1" strike="noStrike">
                <a:solidFill>
                  <a:srgbClr val="9bbb59"/>
                </a:solidFill>
                <a:latin typeface="Arial Rounded MT Bold"/>
              </a:rPr>
              <a:t>CO</a:t>
            </a:r>
            <a:r>
              <a:rPr b="1" lang="en-GB" sz="3400" spc="-1" strike="noStrike" baseline="-25000">
                <a:solidFill>
                  <a:srgbClr val="9bbb59"/>
                </a:solidFill>
                <a:latin typeface="Arial Rounded MT Bold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Left Arrow 5"/>
          <p:cNvGrpSpPr/>
          <p:nvPr/>
        </p:nvGrpSpPr>
        <p:grpSpPr>
          <a:xfrm>
            <a:off x="-60480" y="176040"/>
            <a:ext cx="1328760" cy="1324080"/>
            <a:chOff x="-60480" y="176040"/>
            <a:chExt cx="1328760" cy="1324080"/>
          </a:xfrm>
        </p:grpSpPr>
        <p:pic>
          <p:nvPicPr>
            <p:cNvPr id="87" name="Left Arrow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60480" y="17604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03120" y="517680"/>
              <a:ext cx="91116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90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91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Other Idea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Latex gloves and balloons can be used in this experiment by fitting over the mouth of the flask while the reaction is occurring.  The CO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 produced should blow them up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Investigate acids and alkalis using litmus paper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Add food colouring to make it more exciting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95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98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99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Books and website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Meg’s Cauldron – Helen Nicoll &amp; Jan Pi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ń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kowsk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sheffieldtheatres.co.uk/creativedevelopmentprogramme/productions/macbeth/primary.s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03" name="Left Arrow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06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07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Potions for  the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Foundation Stag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hat will the children be doing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urriculum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Introducing the activit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Scientific enqui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Exploring and play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Using equipmen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Observ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ross-curricular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11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3" name="Picture 6" descr="http://t1.gstatic.com/images?q=tbn:vTZ5grIvj6z4NM:http://hattitudedivas.com/calendars/2009/witch-hat-clipart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643200" y="492912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ttp://t1.gstatic.com/images?q=tbn:vTZ5grIvj6z4NM:http://hattitudedivas.com/calendars/2009/witch-hat-clipart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929120" y="442908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ttp://t1.gstatic.com/images?q=tbn:vTZ5grIvj6z4NM:http://hattitudedivas.com/calendars/2009/witch-hat-clipart.gi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072120" y="392904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http://t1.gstatic.com/images?q=tbn:vTZ5grIvj6z4NM:http://hattitudedivas.com/calendars/2009/witch-hat-clipart.gi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286680" y="5572080"/>
            <a:ext cx="785520" cy="544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t1.gstatic.com/images?q=tbn:vTZ5grIvj6z4NM:http://hattitudedivas.com/calendars/2009/witch-hat-clipart.gi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215040" y="292896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t1.gstatic.com/images?q=tbn:vTZ5grIvj6z4NM:http://hattitudedivas.com/calendars/2009/witch-hat-clipart.gi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4788000" y="228600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ttp://t1.gstatic.com/images?q=tbn:vTZ5grIvj6z4NM:http://hattitudedivas.com/calendars/2009/witch-hat-clipart.gif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8244000" y="1714680"/>
            <a:ext cx="785880" cy="54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1:45:04Z</dcterms:created>
  <dc:creator>Adriana Van Helftere</dc:creator>
  <dc:description/>
  <dc:language>en-US</dc:language>
  <cp:lastModifiedBy>mboniface</cp:lastModifiedBy>
  <dcterms:modified xsi:type="dcterms:W3CDTF">2010-04-16T10:43:17Z</dcterms:modified>
  <cp:revision>144</cp:revision>
  <dc:subject/>
  <dc:title>Slide 1</dc:title>
</cp:coreProperties>
</file>