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375912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375912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000" y="375912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59984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2840" y="159984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375912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75912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2840" y="375912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B982-ECF7-408D-A542-8789E414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796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2E1F-3E02-41AE-A8AA-125F590A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3ABF-7AAF-4211-A456-88F19F2A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941D-8547-4C93-A236-161CFC60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570A-18B7-4F71-8222-D086A95C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9EE0-72E7-4E0C-A91F-BEE0AC46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7960" y="375912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5221-5946-4153-B0B2-100CF10D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25000" y="375912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17C5-BBEE-4376-B540-D2EB49DD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7960" y="375912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F002-E2FF-4057-8552-4401B0D7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7960" y="375912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2900-82C1-429A-A714-1738EDE3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7960" y="375912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25000" y="375912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BD88-F9FF-468C-BEAE-0DA41882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0400" y="159984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2840" y="159984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960" y="375912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0400" y="375912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2840" y="375912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55D8-DBD7-4657-AC0E-0D55E8D97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375912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000" y="375912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375912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308640"/>
            <a:ext cx="9144000" cy="289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>
            <a:off x="6264360" y="5789520"/>
            <a:ext cx="27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company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9144000" cy="6597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5661000"/>
            <a:ext cx="9144000" cy="1197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796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83C7-418E-428A-AA7C-1ADD6D60E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Sounds of Spanish</a:t>
            </a:r>
            <a:endParaRPr b="0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85" name="Picture 4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16112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cc0000"/>
                </a:solidFill>
                <a:latin typeface="Comic Sans MS"/>
              </a:rPr>
              <a:t>   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35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395280" y="549360"/>
            <a:ext cx="69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611280" y="404640"/>
            <a:ext cx="6840360" cy="58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Ñ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ay words with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Ñ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 –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 –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ñ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a - morning/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ñ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- n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¡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ñ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m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ñ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m! - yum yu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cc0000"/>
                </a:solidFill>
                <a:latin typeface="Comic Sans MS"/>
              </a:rPr>
              <a:t>   </a:t>
            </a:r>
            <a:br>
              <a:rPr sz="3200"/>
            </a:b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in Spanish is pronounced in the back of the throat like the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in some Scottish words like 'loch.'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42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image"/>
          <p:cNvPicPr/>
          <p:nvPr/>
        </p:nvPicPr>
        <p:blipFill>
          <a:blip r:embed="rId5"/>
          <a:stretch/>
        </p:blipFill>
        <p:spPr>
          <a:xfrm>
            <a:off x="2484360" y="260280"/>
            <a:ext cx="40006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-74772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ay words with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G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r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– garag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 – cat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lo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- watch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ma - rubber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u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r – woma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itarra – guitar</a:t>
            </a: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món – ha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ro - woolly hat 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 – ey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án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- angel</a:t>
            </a:r>
            <a:br>
              <a:rPr sz="2800"/>
            </a:b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cc0000"/>
                </a:solidFill>
                <a:latin typeface="Comic Sans MS"/>
              </a:rPr>
              <a:t>   </a:t>
            </a: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48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2400"/>
            </a:b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400"/>
            </a:br>
            <a:br>
              <a:rPr sz="24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panish can sound different in different region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xample, in northern Spain people usually say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like the English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in 'think'. However, in most of Latin America people say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like the English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.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53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image"/>
          <p:cNvPicPr/>
          <p:nvPr/>
        </p:nvPicPr>
        <p:blipFill>
          <a:blip r:embed="rId5"/>
          <a:stretch/>
        </p:blipFill>
        <p:spPr>
          <a:xfrm>
            <a:off x="2484360" y="260280"/>
            <a:ext cx="340848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C, Q y Z?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an you say words with C, Q and Z?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sa – hou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lor - colour</a:t>
            </a: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atro – fou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rce - fourtee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– cup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o - fiv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lo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e – block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eso - cheese</a:t>
            </a: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ince - fifteen</a:t>
            </a:r>
            <a:br>
              <a:rPr sz="2800"/>
            </a:br>
            <a:br>
              <a:rPr sz="3600"/>
            </a:br>
            <a:br>
              <a:rPr sz="2400"/>
            </a:b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59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3200"/>
            </a:b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64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7"/>
          <p:cNvSpPr/>
          <p:nvPr/>
        </p:nvSpPr>
        <p:spPr>
          <a:xfrm>
            <a:off x="611280" y="2565360"/>
            <a:ext cx="69850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this letter is never pronounced in Spanis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g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la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na, ¿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lado con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ct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Hello Helena, have you spoken to Hector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CAQRSD2V"/>
          <p:cNvPicPr/>
          <p:nvPr/>
        </p:nvPicPr>
        <p:blipFill>
          <a:blip r:embed="rId5"/>
          <a:stretch/>
        </p:blipFill>
        <p:spPr>
          <a:xfrm>
            <a:off x="2987640" y="260280"/>
            <a:ext cx="216072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3200"/>
            </a:b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71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1258920" y="119700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826920" y="404640"/>
            <a:ext cx="604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ay words with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826920" y="2060640"/>
            <a:ext cx="5761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la – h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blo  - I s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mburgesa – hambur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evo – e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storia -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3200"/>
            </a:b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79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7"/>
          <p:cNvSpPr/>
          <p:nvPr/>
        </p:nvSpPr>
        <p:spPr>
          <a:xfrm>
            <a:off x="611280" y="3357720"/>
            <a:ext cx="69850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these letters sound like the ‘ee’ in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g: S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Madrid es d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t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 y bon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es, Madrid is fun and beautiful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mini-Madrid010"/>
          <p:cNvPicPr/>
          <p:nvPr/>
        </p:nvPicPr>
        <p:blipFill>
          <a:blip r:embed="rId5"/>
          <a:stretch/>
        </p:blipFill>
        <p:spPr>
          <a:xfrm>
            <a:off x="2268360" y="404640"/>
            <a:ext cx="331164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3200"/>
            </a:b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86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7"/>
          <p:cNvSpPr/>
          <p:nvPr/>
        </p:nvSpPr>
        <p:spPr>
          <a:xfrm>
            <a:off x="1258920" y="119700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26920" y="476280"/>
            <a:ext cx="60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 Can you say words with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826920" y="2565360"/>
            <a:ext cx="576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755640" y="1916280"/>
            <a:ext cx="6048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 t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to – red 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n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o –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 – daug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ograf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í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– Ge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st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lo - cas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3200"/>
            </a:b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95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7"/>
          <p:cNvSpPr/>
          <p:nvPr/>
        </p:nvSpPr>
        <p:spPr>
          <a:xfrm>
            <a:off x="539640" y="2205000"/>
            <a:ext cx="69850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this is pronounced like the English letter ‘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g: ¿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é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ieres?. Quiero queso por        fav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What do you want? I want cheese pleas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cheese(1)"/>
          <p:cNvPicPr/>
          <p:nvPr/>
        </p:nvPicPr>
        <p:blipFill>
          <a:blip r:embed="rId5"/>
          <a:stretch/>
        </p:blipFill>
        <p:spPr>
          <a:xfrm>
            <a:off x="2843280" y="404640"/>
            <a:ext cx="24480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698508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like French, in Spanish you must pronounce every single letter except ‘h’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ce you have learnt the sounds of Spanish you can pronounce ANY Spanish word!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0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3200"/>
            </a:b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02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"/>
          <p:cNvSpPr/>
          <p:nvPr/>
        </p:nvSpPr>
        <p:spPr>
          <a:xfrm>
            <a:off x="1258920" y="119700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900000" y="476280"/>
            <a:ext cx="604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ay words with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95280" y="2637000"/>
            <a:ext cx="576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900000" y="2349360"/>
            <a:ext cx="6048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é tal? - How are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ién es? – Who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é disastre! – What a disast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¡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é asco! – How awfu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3200"/>
            </a:b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11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7"/>
          <p:cNvSpPr/>
          <p:nvPr/>
        </p:nvSpPr>
        <p:spPr>
          <a:xfrm>
            <a:off x="1258920" y="119700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971640" y="119700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¡</a:t>
            </a:r>
            <a:r>
              <a:rPr b="0" lang="es-ES" sz="4000" spc="-1" strike="noStrike">
                <a:solidFill>
                  <a:srgbClr val="cc0000"/>
                </a:solidFill>
                <a:latin typeface="Comic Sans MS"/>
              </a:rPr>
              <a:t>A practicar</a:t>
            </a: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826920" y="2565360"/>
            <a:ext cx="576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11280" y="29973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bbc.co.uk/schools/primaryspanish/learn_more/sounds/practice.s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ccents/Stresses</a:t>
            </a:r>
            <a:endParaRPr b="0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20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74880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anish uses accents or stressed letters to help with the pronunciation of words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like French there is only ONE type of accent and it only goes in this direction (/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ll your voice where you see the acce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g: Mar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Ma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las matem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cas = math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c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ó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o = comfortable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25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74880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words that don’t have visible accents the following rule applies…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ess the last syllable for words ending in a consona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g: ani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ma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animal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ess the second last syllable for words ending in a vowe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g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l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o = book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30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in</a:t>
            </a:r>
            <a:endParaRPr b="0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35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08804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mainland Spain the letter ‘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’ is pronounced as a ‘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’, so the word holidays ‘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caciones’ is said more like [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caciones].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5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CerradoVacacionesManoxFilms"/>
          <p:cNvPicPr/>
          <p:nvPr/>
        </p:nvPicPr>
        <p:blipFill>
          <a:blip r:embed="rId5"/>
          <a:stretch/>
        </p:blipFill>
        <p:spPr>
          <a:xfrm>
            <a:off x="1835280" y="620640"/>
            <a:ext cx="482580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37712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B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ay words with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jo - short (height)</a:t>
            </a: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eno – goo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en - well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ca – cow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vo - I live</a:t>
            </a: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rde – gree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ele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sión - television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1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08804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Spanish,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is pronounce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like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in English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Notice that Spanish handwriting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is slightly different to ours.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6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image"/>
          <p:cNvPicPr/>
          <p:nvPr/>
        </p:nvPicPr>
        <p:blipFill>
          <a:blip r:embed="rId5"/>
          <a:stretch/>
        </p:blipFill>
        <p:spPr>
          <a:xfrm>
            <a:off x="1908000" y="189000"/>
            <a:ext cx="453564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2400"/>
            </a:b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2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684360" y="0"/>
            <a:ext cx="662436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ay words with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 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¡Ho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! - Hello!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– Col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a – mo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 – 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– w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o – parr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 – necklac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- S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i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te – ticke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á - over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ón – mill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 - chi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694548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cc0000"/>
                </a:solidFill>
                <a:latin typeface="Comic Sans MS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cc0000"/>
                </a:solidFill>
                <a:latin typeface="Comic Sans MS"/>
              </a:rPr>
              <a:t>   </a:t>
            </a:r>
            <a:br>
              <a:rPr sz="36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Spanish the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sound is rolle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when doubled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, and if it's at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beginning or end of a word.</a:t>
            </a:r>
            <a:r>
              <a:rPr b="0" lang="en-GB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8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"/>
          <p:cNvPicPr/>
          <p:nvPr/>
        </p:nvPicPr>
        <p:blipFill>
          <a:blip r:embed="rId5"/>
          <a:stretch/>
        </p:blipFill>
        <p:spPr>
          <a:xfrm>
            <a:off x="2627280" y="189000"/>
            <a:ext cx="28828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6945480" cy="58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ay words with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bio – blonde            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ío – riv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e – bi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- pear</a:t>
            </a: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jo – r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á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ol - tree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z – ric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 - dog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– tow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ba -above 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24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16112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cc0000"/>
                </a:solidFill>
                <a:latin typeface="Comic Sans MS"/>
              </a:rPr>
              <a:t>   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curly line or 'tilda' over an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in Spanish means it is pronounced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, like the first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in 'onion'. So 'b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ñ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' (which means toilet or bath) is pronounced [b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].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29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image"/>
          <p:cNvPicPr/>
          <p:nvPr/>
        </p:nvPicPr>
        <p:blipFill>
          <a:blip r:embed="rId5"/>
          <a:stretch/>
        </p:blipFill>
        <p:spPr>
          <a:xfrm>
            <a:off x="2268360" y="260280"/>
            <a:ext cx="395928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8T14:32:25Z</dcterms:created>
  <dc:creator>Presentation Helper</dc:creator>
  <dc:description/>
  <dc:language>en-US</dc:language>
  <cp:lastModifiedBy>jbrown8</cp:lastModifiedBy>
  <dcterms:modified xsi:type="dcterms:W3CDTF">2010-01-30T13:20:38Z</dcterms:modified>
  <cp:revision>24</cp:revision>
  <dc:subject/>
  <dc:title>Red and Yellow Template</dc:title>
</cp:coreProperties>
</file>