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375912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00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59984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2840" y="159984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375912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75912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2840" y="375912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CFFE-43CC-47F4-9DA7-847BD1EC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796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9289-19B1-492D-AD5C-D5372D8B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43F4-3320-4D89-92E6-4A49FCEE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AF38-BC61-4DD1-9DBA-BC7D2F9E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3E7C-5B80-48C0-B611-AD095804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9EEC-9A55-4282-A6F1-65EDB249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796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AA7D-DA2F-40D9-AB17-8B9E4FC3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2500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A57A-D44A-4AD9-90B1-54666B54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7960" y="375912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295F-27E7-4590-951F-2131851D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7960" y="375912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284D-15C0-4E22-9D7C-7769CBCA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796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2500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AD08-2048-441C-A4B6-2ECB02DA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400" y="159984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2840" y="159984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960" y="375912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400" y="375912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2840" y="3759120"/>
            <a:ext cx="264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EAF7-A6AA-4377-9D4B-9D932FBB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000" y="375912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000" y="1599840"/>
            <a:ext cx="4015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375912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308640"/>
            <a:ext cx="9144000" cy="289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>
            <a:off x="6264360" y="5789520"/>
            <a:ext cx="27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company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9144000" cy="6597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796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41D9-4E2E-4B29-B3BD-85633D214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ounds of Spanish</a:t>
            </a:r>
            <a:endParaRPr b="0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85" name="Picture 4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16112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  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35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395280" y="549360"/>
            <a:ext cx="69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611280" y="404640"/>
            <a:ext cx="684036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 –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 –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a - morning/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- n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¡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m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m! - yum yu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  </a:t>
            </a:r>
            <a:br>
              <a:rPr sz="3200"/>
            </a:b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n Spanish is pronounced in the back of the throat like the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n some Scottish words like 'loch.'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42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image"/>
          <p:cNvPicPr/>
          <p:nvPr/>
        </p:nvPicPr>
        <p:blipFill>
          <a:blip r:embed="rId5"/>
          <a:stretch/>
        </p:blipFill>
        <p:spPr>
          <a:xfrm>
            <a:off x="2484360" y="260280"/>
            <a:ext cx="40006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-74772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r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– garag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 – cat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l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- watch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ma - rubber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u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r – woma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itarra – guitar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món – ha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ro - woolly hat 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 – ey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án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- angel</a:t>
            </a:r>
            <a:br>
              <a:rPr sz="2800"/>
            </a:b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  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48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2400"/>
            </a:b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400"/>
            </a:br>
            <a:br>
              <a:rPr sz="24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panish can sound different in different region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xample, in northern Spain people usually say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like the English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n 'think'. However, in most of Latin America people say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like the English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.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3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image"/>
          <p:cNvPicPr/>
          <p:nvPr/>
        </p:nvPicPr>
        <p:blipFill>
          <a:blip r:embed="rId5"/>
          <a:stretch/>
        </p:blipFill>
        <p:spPr>
          <a:xfrm>
            <a:off x="2484360" y="260280"/>
            <a:ext cx="340848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C, Q y Z?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an you say words with C, Q and Z?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sa – ho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lor - colour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atro – fou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rce - fourtee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– cup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o - fiv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l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e – block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eso - cheese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ince - fifteen</a:t>
            </a:r>
            <a:br>
              <a:rPr sz="2800"/>
            </a:br>
            <a:br>
              <a:rPr sz="3600"/>
            </a:br>
            <a:br>
              <a:rPr sz="2400"/>
            </a:b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9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64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611280" y="2565360"/>
            <a:ext cx="6985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this letter is never pronounced in Spani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a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na, ¿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lado con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ct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ello Helena, have you spoken to Hector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CAQRSD2V"/>
          <p:cNvPicPr/>
          <p:nvPr/>
        </p:nvPicPr>
        <p:blipFill>
          <a:blip r:embed="rId5"/>
          <a:stretch/>
        </p:blipFill>
        <p:spPr>
          <a:xfrm>
            <a:off x="2987640" y="260280"/>
            <a:ext cx="21607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71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1258920" y="119700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826920" y="404640"/>
            <a:ext cx="604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826920" y="2060640"/>
            <a:ext cx="5761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la – 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blo  - I s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mburgesa – hambu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evo – e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storia -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79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611280" y="3357720"/>
            <a:ext cx="6985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these letters sound like the ‘ee’ in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: S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Madrid es d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 y bon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es, Madrid is fun and beautifu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mini-Madrid010"/>
          <p:cNvPicPr/>
          <p:nvPr/>
        </p:nvPicPr>
        <p:blipFill>
          <a:blip r:embed="rId5"/>
          <a:stretch/>
        </p:blipFill>
        <p:spPr>
          <a:xfrm>
            <a:off x="2268360" y="404640"/>
            <a:ext cx="331164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86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1258920" y="119700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26920" y="476280"/>
            <a:ext cx="60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 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826920" y="2565360"/>
            <a:ext cx="576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755640" y="1916280"/>
            <a:ext cx="6048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t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to – red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n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o –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 – daug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ograf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í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– Ge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st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lo - cas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95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539640" y="2205000"/>
            <a:ext cx="6985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this is pronounced like the English letter ‘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: ¿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é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ieres?. Quiero queso por        fav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What do you want? I want cheese pleas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cheese(1)"/>
          <p:cNvPicPr/>
          <p:nvPr/>
        </p:nvPicPr>
        <p:blipFill>
          <a:blip r:embed="rId5"/>
          <a:stretch/>
        </p:blipFill>
        <p:spPr>
          <a:xfrm>
            <a:off x="2843280" y="404640"/>
            <a:ext cx="24480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698508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like French, in Spanish you must pronounce every single letter except ‘h’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ce you have learnt the sounds of Spanish you can pronounce ANY Spanish word!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0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02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1258920" y="119700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900000" y="476280"/>
            <a:ext cx="60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95280" y="2637000"/>
            <a:ext cx="576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900000" y="2349360"/>
            <a:ext cx="6048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é tal? - How a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ién es? – Who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é disastre! – What a disas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¡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é asco! – How awfu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3200"/>
            </a:b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11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7"/>
          <p:cNvSpPr/>
          <p:nvPr/>
        </p:nvSpPr>
        <p:spPr>
          <a:xfrm>
            <a:off x="1258920" y="119700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971640" y="119700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¡</a:t>
            </a: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A practicar</a:t>
            </a: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826920" y="2565360"/>
            <a:ext cx="576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11280" y="29973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bbc.co.uk/schools/primaryspanish/learn_more/sounds/practice.s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ccents/Stresses</a:t>
            </a:r>
            <a:endParaRPr b="0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20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4880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anish uses accents or stressed letters to help with the pronunciation of words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like French there is only ONE type of accent and it only goes in this direction (/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ll your voice where you see the acce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: Mar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Ma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las matem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cas = math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c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ó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o = comfortable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25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4880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words that don’t have visible accents the following rule applies…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ess the last syllable for words ending in a consona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: ani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a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animal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ess the second last syllable for words ending in a vowe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g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l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o = book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30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in</a:t>
            </a:r>
            <a:endParaRPr b="0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35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08804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mainland Spain the letter ‘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’ is pronounced as a ‘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’, so the word holidays ‘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caciones’ is said more like [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caciones].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5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CerradoVacacionesManoxFilms"/>
          <p:cNvPicPr/>
          <p:nvPr/>
        </p:nvPicPr>
        <p:blipFill>
          <a:blip r:embed="rId5"/>
          <a:stretch/>
        </p:blipFill>
        <p:spPr>
          <a:xfrm>
            <a:off x="1835280" y="620640"/>
            <a:ext cx="48258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37712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jo - short (height)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eno – goo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en - well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ca – cow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vo - I live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rde – gree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le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sión - television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1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08804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Spanish,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s pronounce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like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n English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Notice that Spanish handwritin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is slightly different to ours.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6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image"/>
          <p:cNvPicPr/>
          <p:nvPr/>
        </p:nvPicPr>
        <p:blipFill>
          <a:blip r:embed="rId5"/>
          <a:stretch/>
        </p:blipFill>
        <p:spPr>
          <a:xfrm>
            <a:off x="1908000" y="189000"/>
            <a:ext cx="45356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37712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2400"/>
            </a:b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2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684360" y="0"/>
            <a:ext cx="662436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¡H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! - Hello!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– Col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a – mo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 – 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– w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o – parr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 – necklac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- 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e – ticke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á - over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ón – mill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 - chi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694548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  </a:t>
            </a:r>
            <a:br>
              <a:rPr sz="36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Spanish the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sound is rolle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hen doubled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, and if it's at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beginning or end of a word.</a:t>
            </a: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8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"/>
          <p:cNvPicPr/>
          <p:nvPr/>
        </p:nvPicPr>
        <p:blipFill>
          <a:blip r:embed="rId5"/>
          <a:stretch/>
        </p:blipFill>
        <p:spPr>
          <a:xfrm>
            <a:off x="2627280" y="189000"/>
            <a:ext cx="28828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6945480" cy="58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¿Puedes decir palabras con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ay words with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bio – blonde            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ío – riv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e – bi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- pear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jo – r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á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ol - tree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z – ric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 - do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– tow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r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ba -above 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24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16112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  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curly line or 'tilda' over an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n Spanish means it is pronounced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, like the first '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' in 'onion'. So 'b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ñ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' (which means toilet or bath) is pronounced [ba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].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29" name="Picture 3" descr="j0160624"/>
          <p:cNvPicPr/>
          <p:nvPr/>
        </p:nvPicPr>
        <p:blipFill>
          <a:blip r:embed="rId1"/>
          <a:stretch/>
        </p:blipFill>
        <p:spPr>
          <a:xfrm>
            <a:off x="7380360" y="1484280"/>
            <a:ext cx="14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j0160646"/>
          <p:cNvPicPr/>
          <p:nvPr/>
        </p:nvPicPr>
        <p:blipFill>
          <a:blip r:embed="rId2"/>
          <a:stretch/>
        </p:blipFill>
        <p:spPr>
          <a:xfrm>
            <a:off x="7812000" y="3141720"/>
            <a:ext cx="1076400" cy="21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j0160648"/>
          <p:cNvPicPr/>
          <p:nvPr/>
        </p:nvPicPr>
        <p:blipFill>
          <a:blip r:embed="rId3"/>
          <a:stretch/>
        </p:blipFill>
        <p:spPr>
          <a:xfrm>
            <a:off x="7236000" y="5157720"/>
            <a:ext cx="1655640" cy="1487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j0167804"/>
          <p:cNvPicPr/>
          <p:nvPr/>
        </p:nvPicPr>
        <p:blipFill>
          <a:blip r:embed="rId4"/>
          <a:stretch/>
        </p:blipFill>
        <p:spPr>
          <a:xfrm>
            <a:off x="7318440" y="0"/>
            <a:ext cx="1825560" cy="1380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image"/>
          <p:cNvPicPr/>
          <p:nvPr/>
        </p:nvPicPr>
        <p:blipFill>
          <a:blip r:embed="rId5"/>
          <a:stretch/>
        </p:blipFill>
        <p:spPr>
          <a:xfrm>
            <a:off x="2268360" y="260280"/>
            <a:ext cx="395928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14:32:25Z</dcterms:created>
  <dc:creator>Presentation Helper</dc:creator>
  <dc:description/>
  <dc:language>en-US</dc:language>
  <cp:lastModifiedBy>jbrown8</cp:lastModifiedBy>
  <dcterms:modified xsi:type="dcterms:W3CDTF">2010-01-30T13:20:38Z</dcterms:modified>
  <cp:revision>24</cp:revision>
  <dc:subject/>
  <dc:title>Red and Yellow Template</dc:title>
</cp:coreProperties>
</file>