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C1FF-882D-4E8E-B95A-E2D9A3B0EA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7BA3-6ADC-42BF-A94F-44F18AFB6F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EFF8A-F717-491C-AE6E-D022DC9FD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57C8D-8029-49EB-A5F1-93FD50F4C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81958-E985-480B-8C6A-C6259E8AD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08D84-E520-495C-87FF-DC38C6F84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CE692-332C-4A66-875A-49B3A408E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B31A8-B3B1-4815-ABEB-0324CF959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7DDB3-42AB-4655-B177-6CDDE44B4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D9518-BF8D-48F6-9B30-4A3ECAD27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5E8AC-3DDE-4AE2-9EC0-EDFC252E4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9D46-E78B-4C52-BA2D-B8C37701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1E47-F302-4D07-86CC-F6ADF1769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2B6F-F641-468B-ACB1-1DE6D5182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6D92-E6B3-4DC2-A589-41CF70C956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2" descr="Visual Literacy image"/>
          <p:cNvPicPr/>
          <p:nvPr/>
        </p:nvPicPr>
        <p:blipFill>
          <a:blip r:embed="rId1"/>
          <a:stretch/>
        </p:blipFill>
        <p:spPr>
          <a:xfrm>
            <a:off x="0" y="0"/>
            <a:ext cx="9144000" cy="6858000"/>
          </a:xfrm>
          <a:prstGeom prst="rect">
            <a:avLst/>
          </a:prstGeom>
          <a:ln w="0">
            <a:noFill/>
          </a:ln>
        </p:spPr>
      </p:pic>
      <p:sp>
        <p:nvSpPr>
          <p:cNvPr id="51" name="TextBox 4"/>
          <p:cNvSpPr/>
          <p:nvPr/>
        </p:nvSpPr>
        <p:spPr>
          <a:xfrm>
            <a:off x="5643720" y="0"/>
            <a:ext cx="350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Get ideas at: </a:t>
            </a:r>
            <a:r>
              <a:rPr b="1" lang="en-GB" sz="1800" spc="-1" strike="noStrike">
                <a:solidFill>
                  <a:srgbClr val="0070c0"/>
                </a:solidFill>
                <a:latin typeface="Calibri"/>
              </a:rPr>
              <a:t>www.learninglive.co.uk/teachers/primary/literacy/materials/visual_literacy/index.asp </a:t>
            </a:r>
            <a:r>
              <a:rPr b="1" lang="en-GB" sz="1800" spc="-1" strike="noStrike">
                <a:solidFill>
                  <a:srgbClr val="000000"/>
                </a:solidFill>
                <a:latin typeface="Calibri"/>
              </a:rPr>
              <a:t>(click on lin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alibri"/>
              </a:rPr>
              <a:t>Using multi-media approach to encourage children as writers</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fferent media can be used to motivate children’s imagination and encourage them to use their different senses when creating a piece of writing. Studies have shown that this  strategy is particularly successful at engaging boys and children with SEN, as well as the rest of the class. See: </a:t>
            </a:r>
            <a:r>
              <a:rPr b="0" lang="en-GB" sz="2000" spc="-1" strike="noStrike">
                <a:solidFill>
                  <a:srgbClr val="000000"/>
                </a:solidFill>
                <a:latin typeface="Calibri"/>
              </a:rPr>
              <a:t>http://www.whatworkswell.standards.dcsf.gov.uk/viewcasestudy/what?casestudyid=2576&amp;recordid=2228</a:t>
            </a:r>
            <a:r>
              <a:rPr b="0" lang="en-GB" sz="3200" spc="-1" strike="noStrike">
                <a:solidFill>
                  <a:srgbClr val="000000"/>
                </a:solidFill>
                <a:latin typeface="Calibri"/>
              </a:rPr>
              <a:t> (click on l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could you u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nd a short video clip, or a small section of a film, and expose the children to only one aspect at a time. This enables them to create layers of knowledge about the clip, gradually building their understanding. Depending on the children’s age, ability and engagement with the stimulus, you can decide when to introduce each aspect. You may use a different one each literacy lesson or you can spend a whole week working thoroughly with one asp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ound</a:t>
            </a:r>
            <a:endParaRPr b="0" lang="en-US" sz="4400" spc="-1" strike="noStrike">
              <a:solidFill>
                <a:srgbClr val="000000"/>
              </a:solidFill>
              <a:latin typeface="Calibri"/>
            </a:endParaRPr>
          </a:p>
        </p:txBody>
      </p:sp>
      <p:sp>
        <p:nvSpPr>
          <p:cNvPr id="57" name=""/>
          <p:cNvSpPr txBox="1"/>
          <p:nvPr/>
        </p:nvSpPr>
        <p:spPr>
          <a:xfrm>
            <a:off x="457200" y="1599840"/>
            <a:ext cx="8229600" cy="49719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egin by playing only the sound of the clip to the children. From this they are able to create individual and unique images and predictions with their imagination. The class should discuss what they can visualise with their minds eye. They could draw pictures or describe their image to a partner who has to draw it, this encourages them to think carefully about descriptive word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groups, the children can evaluate what they think may be happening and make predictions about what could happen next in the clip and together create storyboards to present to the class.</a:t>
            </a:r>
            <a:r>
              <a:rPr b="0" lang="en-GB" sz="2500" spc="-1" strike="noStrike">
                <a:solidFill>
                  <a:srgbClr val="000000"/>
                </a:solidFill>
                <a:latin typeface="Calibri"/>
              </a:rPr>
              <a:t>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provides an opportunity for assessment, as the children show their comprehension of stories and their structure through the comments and predictions they mak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ingle Images</a:t>
            </a:r>
            <a:endParaRPr b="0" lang="en-US" sz="4400" spc="-1" strike="noStrike">
              <a:solidFill>
                <a:srgbClr val="000000"/>
              </a:solidFill>
              <a:latin typeface="Calibri"/>
            </a:endParaRPr>
          </a:p>
        </p:txBody>
      </p:sp>
      <p:sp>
        <p:nvSpPr>
          <p:cNvPr id="59" name=""/>
          <p:cNvSpPr txBox="1"/>
          <p:nvPr/>
        </p:nvSpPr>
        <p:spPr>
          <a:xfrm>
            <a:off x="457200" y="1600200"/>
            <a:ext cx="8229600" cy="50436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play to the class a sequence of still images taken from the video, in no particular order. From these the children should discuss how the pictures compare to the images they had imagined and what they now think may happen in the story. They could physically move the images around, on the interactive white board or you can have print outs for them, and put them into what they think may be the correct ord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ncourage lots of discussion about what could be happening in the pictures and ask children to produce a piece of descriptive writing for eac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No Soun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lay the video without the sound. This provides children with visual stimulus, allowing them to concentrate on what is happening within the story without the influence of dialogue, music or sound effects. This calls for children to pay close attention to the setting as well as the body language and facial expressions of the character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 pairs or groups that children could act out the scene putting in their own dialogue and soun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y use these ideas in literacy?</a:t>
            </a:r>
            <a:endParaRPr b="0" lang="en-US" sz="4400" spc="-1" strike="noStrike">
              <a:solidFill>
                <a:srgbClr val="000000"/>
              </a:solidFill>
              <a:latin typeface="Calibri"/>
            </a:endParaRPr>
          </a:p>
        </p:txBody>
      </p:sp>
      <p:sp>
        <p:nvSpPr>
          <p:cNvPr id="63" name=""/>
          <p:cNvSpPr txBox="1"/>
          <p:nvPr/>
        </p:nvSpPr>
        <p:spPr>
          <a:xfrm>
            <a:off x="457200" y="1599840"/>
            <a:ext cx="8229600" cy="49719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sequence of activities encourages children to engage with the stimulus in variety of ways and focus upon only one aspect each time. It is a motivating way to promote children’s thinking about different aspects of descriptive writing, how to create a clear visual image inside a reader’s mind, how sound plays a role in setting a scene or how writer’s could describe a character’s emotional state without using dialogue, to name a fe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interactive lessons make literacy fun and accessible to a range of ages and abilities through the use of visual, kinaesthetic and auditory resour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videos could you us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activities can be tailored for different ages and abilities by selecting a video clip that is appropriately engaging for the childre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Teachers TV have short video clips to spark children’s imagination to create stories of different genres, such as ghost stories, adventure stories and myster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teachers.tv/subjects/primary/writing</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You could even use cartoons or other children’s programmes to engage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3:10:50Z</dcterms:created>
  <dc:creator>emma little</dc:creator>
  <dc:description/>
  <dc:language>en-US</dc:language>
  <cp:lastModifiedBy>ldavidson</cp:lastModifiedBy>
  <dcterms:modified xsi:type="dcterms:W3CDTF">2010-03-31T13:00:58Z</dcterms:modified>
  <cp:revision>37</cp:revision>
  <dc:subject/>
  <dc:title>Slide 1</dc:title>
</cp:coreProperties>
</file>